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5FD-10BC-45C4-99CC-28A28DB2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60D-5672-4F02-81A5-7C67908A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D7E-102B-48B0-845E-3B5C1CE4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19E-F95A-4494-9713-85AB1DBF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B96-4C52-4D90-B021-E6202A4B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8E4-C877-461C-B713-09709A77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62F-B004-4AF5-8BD0-96588441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6EE-F0B0-43F0-83E5-AD930C81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31F-098C-4E1B-BB04-90AC452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63E-A682-4A22-AC5E-C0EED3A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51F-B875-4D31-B260-26A293C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8FA-E2D4-4202-A3C2-3E0D75BE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2620-A084-40CD-817B-EA34D1A51B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adl.org/children_holocaust/krystyna1.jpg&amp;imgrefurl=http://www.adl.org/children_holocaust/story_krystyna.asp&amp;h=260&amp;w=182&amp;sz=10&amp;hl=en&amp;start=3&amp;tbnid=LRKP3NYNt3PAsM:&amp;tbnh=112&amp;tbnw=78&amp;prev=/images%3Fq%3DKrystyna%2Bstory%26gbv%3D2%26svnum%3D10%26hl%3Den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ract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9780908704859"/>
          <p:cNvPicPr/>
          <p:nvPr/>
        </p:nvPicPr>
        <p:blipFill>
          <a:blip r:embed="rId1"/>
          <a:stretch/>
        </p:blipFill>
        <p:spPr>
          <a:xfrm>
            <a:off x="684360" y="907920"/>
            <a:ext cx="2276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s she did not cry infront of people and wasn’t afraid to go into the forest and tell her people about the amnes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often puts her fist in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th to suppress h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didn’t worry about the guards seeing me…’p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ww2front"/>
          <p:cNvPicPr/>
          <p:nvPr/>
        </p:nvPicPr>
        <p:blipFill>
          <a:blip r:embed="rId1"/>
          <a:stretch/>
        </p:blipFill>
        <p:spPr>
          <a:xfrm>
            <a:off x="6300720" y="2565360"/>
            <a:ext cx="220824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ares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wish I could h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 my arms’ Marysia r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sat right besid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moothing the damp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ck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r forehead.’ P.75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aring"/>
          <p:cNvPicPr/>
          <p:nvPr/>
        </p:nvPicPr>
        <p:blipFill>
          <a:blip r:embed="rId1"/>
          <a:stretch/>
        </p:blipFill>
        <p:spPr>
          <a:xfrm>
            <a:off x="6372360" y="1844640"/>
            <a:ext cx="251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er whole experience with war and death makes her grow up and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Arial"/>
              </a:rPr>
              <a:t>mature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t a young age.  She just wants to feel like she belong somew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y of the things that I c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ember made me cry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ying felt like a sort of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I tried not to think about th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were sad.’ (1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olishRefugees"/>
          <p:cNvPicPr/>
          <p:nvPr/>
        </p:nvPicPr>
        <p:blipFill>
          <a:blip r:embed="rId1"/>
          <a:stretch/>
        </p:blipFill>
        <p:spPr>
          <a:xfrm>
            <a:off x="5508720" y="2282760"/>
            <a:ext cx="3456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a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When it come to food she steals from people to feed he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was so hungry, so very hungry that I had to  dip my finger into it. Two, three or four times I dipped in my finger and sucked up the gruel…’ p.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 of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ood"/>
          <p:cNvPicPr/>
          <p:nvPr/>
        </p:nvPicPr>
        <p:blipFill>
          <a:blip r:embed="rId1"/>
          <a:stretch/>
        </p:blipFill>
        <p:spPr>
          <a:xfrm>
            <a:off x="6877080" y="4437000"/>
            <a:ext cx="27748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When she is in the dress shop she does not want to take her clothes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hy and embarrassed.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front of the shop assi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yssa__Monks_Self_conscious_236_1054"/>
          <p:cNvPicPr/>
          <p:nvPr/>
        </p:nvPicPr>
        <p:blipFill>
          <a:blip r:embed="rId1"/>
          <a:stretch/>
        </p:blipFill>
        <p:spPr>
          <a:xfrm>
            <a:off x="6156360" y="2708280"/>
            <a:ext cx="2590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to  survive and to help her brother live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y life blood so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felt full of promise…’(4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eaving the cattle wagon made her think her life was worth living aft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artisans-sm"/>
          <p:cNvPicPr/>
          <p:nvPr/>
        </p:nvPicPr>
        <p:blipFill>
          <a:blip r:embed="rId1"/>
          <a:stretch/>
        </p:blipFill>
        <p:spPr>
          <a:xfrm>
            <a:off x="5867280" y="1700280"/>
            <a:ext cx="30146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asks question about what is happe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cared and lonely.  ‘But what will happen…where will we go?”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05"/>
          <p:cNvPicPr/>
          <p:nvPr/>
        </p:nvPicPr>
        <p:blipFill>
          <a:blip r:embed="rId1"/>
          <a:stretch/>
        </p:blipFill>
        <p:spPr>
          <a:xfrm>
            <a:off x="4427640" y="3933720"/>
            <a:ext cx="35290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young as she does not understand about the rape and what happened to Marysia because of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ysia…was groaning loudly and tossing about.  She seemed to be having some sort of violent fever.’ (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rystyn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2060640"/>
            <a:ext cx="1757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She learns English quickly and gets her school certif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came here without a word of English and now she is doing very well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ldbk"/>
          <p:cNvPicPr/>
          <p:nvPr/>
        </p:nvPicPr>
        <p:blipFill>
          <a:blip r:embed="rId1"/>
          <a:stretch/>
        </p:blipFill>
        <p:spPr>
          <a:xfrm>
            <a:off x="2843280" y="4076640"/>
            <a:ext cx="38163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35:16Z</dcterms:created>
  <dc:creator>Ministry of Education</dc:creator>
  <dc:description/>
  <dc:language>en-US</dc:language>
  <cp:lastModifiedBy>Administrator</cp:lastModifiedBy>
  <dcterms:modified xsi:type="dcterms:W3CDTF">2015-05-11T22:49:47Z</dcterms:modified>
  <cp:revision>8</cp:revision>
  <dc:subject/>
  <dc:title>Krystyna</dc:title>
</cp:coreProperties>
</file>