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9C0-DAA2-47DE-ACBD-8BF8F607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432-ABF3-4FC4-9132-A866B5DA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3FD-026C-45E7-A3C6-D6B8A0E1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D28-B625-4D02-9A4E-CC098120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314-732A-4F61-83A0-1CF1F6B1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CFF5-DE51-4FFC-894C-FECE68E6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47F-A5A8-44E5-AA20-83274BD3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FBB-E59C-4952-84E7-8511B424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4ED4-A8AF-42C3-BA4D-2C157A74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769-3147-4B99-BD3D-8BE0B56A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8C0-6230-4D48-B954-5CDD0CC9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FA7-3A74-4F7A-BDCE-82D08123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9E89-639B-40E2-9AFF-B214F617A0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adl.org/children_holocaust/krystyna1.jpg&amp;imgrefurl=http://www.adl.org/children_holocaust/story_krystyna.asp&amp;h=260&amp;w=182&amp;sz=10&amp;hl=en&amp;start=3&amp;tbnid=LRKP3NYNt3PAsM:&amp;tbnh=112&amp;tbnw=78&amp;prev=/images%3Fq%3DKrystyna%2Bstory%26gbv%3D2%26svnum%3D10%26hl%3Den%26sa%3D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Krysty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haracter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9780908704859"/>
          <p:cNvPicPr/>
          <p:nvPr/>
        </p:nvPicPr>
        <p:blipFill>
          <a:blip r:embed="rId1"/>
          <a:stretch/>
        </p:blipFill>
        <p:spPr>
          <a:xfrm>
            <a:off x="684360" y="907920"/>
            <a:ext cx="22762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brave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s she did not cry infront of people and wasn’t afraid to go into the forest and tell her people about the amnes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he often puts her fist in 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uth to suppress her t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didn’t worry about the guards seeing me…’p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ww2front"/>
          <p:cNvPicPr/>
          <p:nvPr/>
        </p:nvPicPr>
        <p:blipFill>
          <a:blip r:embed="rId1"/>
          <a:stretch/>
        </p:blipFill>
        <p:spPr>
          <a:xfrm>
            <a:off x="6300720" y="2565360"/>
            <a:ext cx="2208240" cy="27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Krystyna </a:t>
            </a:r>
            <a:r>
              <a:rPr b="1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ares 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 wish I could h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n my arms’ Marysia r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 sat right beside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moothing the damp h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ack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her forehead.’ P.75 M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d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aring"/>
          <p:cNvPicPr/>
          <p:nvPr/>
        </p:nvPicPr>
        <p:blipFill>
          <a:blip r:embed="rId1"/>
          <a:stretch/>
        </p:blipFill>
        <p:spPr>
          <a:xfrm>
            <a:off x="6372360" y="1844640"/>
            <a:ext cx="2516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Her whole experience with war and death makes her grow up and </a:t>
            </a:r>
            <a:r>
              <a:rPr b="1" lang="en-NZ" sz="3600" spc="-1" strike="noStrike" u="sng">
                <a:solidFill>
                  <a:srgbClr val="000000"/>
                </a:solidFill>
                <a:uFillTx/>
                <a:latin typeface="Arial"/>
              </a:rPr>
              <a:t>mature 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at a young age.  She just wants to feel like she belong somew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ny of the things that I c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member made me cry, b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rying felt like a sort of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o I tried not to think about th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at were sad.’ (1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PolishRefugees"/>
          <p:cNvPicPr/>
          <p:nvPr/>
        </p:nvPicPr>
        <p:blipFill>
          <a:blip r:embed="rId1"/>
          <a:stretch/>
        </p:blipFill>
        <p:spPr>
          <a:xfrm>
            <a:off x="5508720" y="2282760"/>
            <a:ext cx="3456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a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survivor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When it come to food she steals from people to feed herse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urvivo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…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was so hungry, so very hungry that I had to  dip my finger into it. Two, three or four times I dipped in my finger and sucked up the gruel…’ p.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other example of this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food"/>
          <p:cNvPicPr/>
          <p:nvPr/>
        </p:nvPicPr>
        <p:blipFill>
          <a:blip r:embed="rId1"/>
          <a:stretch/>
        </p:blipFill>
        <p:spPr>
          <a:xfrm>
            <a:off x="6877080" y="4437000"/>
            <a:ext cx="27748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self consciou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 When she is in the dress shop she does not want to take her clothes of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elf cons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felt shy and embarrassed.’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front of the shop assi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other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lyssa__Monks_Self_conscious_236_1054"/>
          <p:cNvPicPr/>
          <p:nvPr/>
        </p:nvPicPr>
        <p:blipFill>
          <a:blip r:embed="rId1"/>
          <a:stretch/>
        </p:blipFill>
        <p:spPr>
          <a:xfrm>
            <a:off x="6156360" y="2708280"/>
            <a:ext cx="25909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Krystyna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determined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to  survive and to help her brother live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Deter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…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y life blood so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d felt full of promise…’(4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eaving the cattle wagon made her think her life was worth living aft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partisans-sm"/>
          <p:cNvPicPr/>
          <p:nvPr/>
        </p:nvPicPr>
        <p:blipFill>
          <a:blip r:embed="rId1"/>
          <a:stretch/>
        </p:blipFill>
        <p:spPr>
          <a:xfrm>
            <a:off x="5867280" y="1700280"/>
            <a:ext cx="301464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curiou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nd asks question about what is happe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felt scared and lonely.  ‘But what will happen…where will we go?”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05"/>
          <p:cNvPicPr/>
          <p:nvPr/>
        </p:nvPicPr>
        <p:blipFill>
          <a:blip r:embed="rId1"/>
          <a:stretch/>
        </p:blipFill>
        <p:spPr>
          <a:xfrm>
            <a:off x="4427640" y="3933720"/>
            <a:ext cx="35290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innocent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nd young as she does not understand about the rape and what happened to Marysia because of th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no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rysia…was groaning loudly and tossing about.  She seemed to be having some sort of violent fever.’ (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krystyna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2060640"/>
            <a:ext cx="17571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Krystyna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intelligent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 She learns English quickly and gets her school certific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telli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he came here without a word of English and now she is doing very well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oldbk"/>
          <p:cNvPicPr/>
          <p:nvPr/>
        </p:nvPicPr>
        <p:blipFill>
          <a:blip r:embed="rId1"/>
          <a:stretch/>
        </p:blipFill>
        <p:spPr>
          <a:xfrm>
            <a:off x="2843280" y="4076640"/>
            <a:ext cx="381636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1:35:16Z</dcterms:created>
  <dc:creator>Ministry of Education</dc:creator>
  <dc:description/>
  <dc:language>en-US</dc:language>
  <cp:lastModifiedBy>Administrator</cp:lastModifiedBy>
  <dcterms:modified xsi:type="dcterms:W3CDTF">2015-05-11T22:49:47Z</dcterms:modified>
  <cp:revision>8</cp:revision>
  <dc:subject/>
  <dc:title>Krystyna</dc:title>
</cp:coreProperties>
</file>