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945-7C53-4761-ABA7-EA921393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74F-2ECC-431F-9721-4CD510A7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481-53C6-411F-94D2-AAA96EBA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F1D-2C28-4986-B1B7-6E0E3F8D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E6D-42B3-4A31-8067-3AB7BEBD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071-238A-4D3B-96C2-B0E170B8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BF3-681E-4E93-B3D0-2801B18F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416-69F1-4C5F-9079-E1FA7631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456-EF3F-448C-B8D5-117B1062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77B-3C4E-4C3A-9362-F382115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868-4E0E-4397-B752-9A9844C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2C6-E3E9-4A1A-9B9A-1244ED2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101F-F779-4262-B55F-BAE6D5E967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adl.org/children_holocaust/krystyna1.jpg&amp;imgrefurl=http://www.adl.org/children_holocaust/story_krystyna.asp&amp;h=260&amp;w=182&amp;sz=10&amp;hl=en&amp;start=3&amp;tbnid=LRKP3NYNt3PAsM:&amp;tbnh=112&amp;tbnw=78&amp;prev=/images%3Fq%3DKrystyna%2Bstory%26gbv%3D2%26svnum%3D10%26hl%3Den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haract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9780908704859"/>
          <p:cNvPicPr/>
          <p:nvPr/>
        </p:nvPicPr>
        <p:blipFill>
          <a:blip r:embed="rId1"/>
          <a:stretch/>
        </p:blipFill>
        <p:spPr>
          <a:xfrm>
            <a:off x="684360" y="907920"/>
            <a:ext cx="22762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s she did not cry infront of people and wasn’t afraid to go into the forest and tell her people about the amnes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often puts her fist in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th to suppress h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didn’t worry about the guards seeing me…’p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ww2front"/>
          <p:cNvPicPr/>
          <p:nvPr/>
        </p:nvPicPr>
        <p:blipFill>
          <a:blip r:embed="rId1"/>
          <a:stretch/>
        </p:blipFill>
        <p:spPr>
          <a:xfrm>
            <a:off x="6300720" y="2565360"/>
            <a:ext cx="2208240" cy="27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Krystyna </a:t>
            </a: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ares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wish I could h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 my arms’ Marysia r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 sat right beside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moothing the damp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ack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r forehead.’ P.75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aring"/>
          <p:cNvPicPr/>
          <p:nvPr/>
        </p:nvPicPr>
        <p:blipFill>
          <a:blip r:embed="rId1"/>
          <a:stretch/>
        </p:blipFill>
        <p:spPr>
          <a:xfrm>
            <a:off x="6372360" y="1844640"/>
            <a:ext cx="2516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er whole experience with war and death makes her grow up and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Arial"/>
              </a:rPr>
              <a:t>mature 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t a young age.  She just wants to feel like she belong somew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y of the things that I c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member made me cry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rying felt like a sort of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 I tried not to think about th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at were sad.’ (1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olishRefugees"/>
          <p:cNvPicPr/>
          <p:nvPr/>
        </p:nvPicPr>
        <p:blipFill>
          <a:blip r:embed="rId1"/>
          <a:stretch/>
        </p:blipFill>
        <p:spPr>
          <a:xfrm>
            <a:off x="5508720" y="2282760"/>
            <a:ext cx="3456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a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When it come to food she steals from people to feed her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urviv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was so hungry, so very hungry that I had to  dip my finger into it. Two, three or four times I dipped in my finger and sucked up the gruel…’ p.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 of this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food"/>
          <p:cNvPicPr/>
          <p:nvPr/>
        </p:nvPicPr>
        <p:blipFill>
          <a:blip r:embed="rId1"/>
          <a:stretch/>
        </p:blipFill>
        <p:spPr>
          <a:xfrm>
            <a:off x="6877080" y="4437000"/>
            <a:ext cx="27748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When she is in the dress shop she does not want to take her clothes of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elf cons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hy and embarrassed.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front of the shop assi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other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yssa__Monks_Self_conscious_236_1054"/>
          <p:cNvPicPr/>
          <p:nvPr/>
        </p:nvPicPr>
        <p:blipFill>
          <a:blip r:embed="rId1"/>
          <a:stretch/>
        </p:blipFill>
        <p:spPr>
          <a:xfrm>
            <a:off x="6156360" y="2708280"/>
            <a:ext cx="2590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to  survive and to help her brother live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y life blood so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felt full of promise…’(4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eaving the cattle wagon made her think her life was worth living aft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partisans-sm"/>
          <p:cNvPicPr/>
          <p:nvPr/>
        </p:nvPicPr>
        <p:blipFill>
          <a:blip r:embed="rId1"/>
          <a:stretch/>
        </p:blipFill>
        <p:spPr>
          <a:xfrm>
            <a:off x="5867280" y="1700280"/>
            <a:ext cx="30146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asks question about what is happe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felt scared and lonely.  ‘But what will happen…where will we go?”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05"/>
          <p:cNvPicPr/>
          <p:nvPr/>
        </p:nvPicPr>
        <p:blipFill>
          <a:blip r:embed="rId1"/>
          <a:stretch/>
        </p:blipFill>
        <p:spPr>
          <a:xfrm>
            <a:off x="4427640" y="3933720"/>
            <a:ext cx="35290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young as she does not understand about the rape and what happened to Marysia because of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rysia…was groaning loudly and tossing about.  She seemed to be having some sort of violent fever.’ (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krystyn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2060640"/>
            <a:ext cx="17571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rystyna is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 She learns English quickly and gets her school certific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telli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e came here without a word of English and now she is doing very well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ldbk"/>
          <p:cNvPicPr/>
          <p:nvPr/>
        </p:nvPicPr>
        <p:blipFill>
          <a:blip r:embed="rId1"/>
          <a:stretch/>
        </p:blipFill>
        <p:spPr>
          <a:xfrm>
            <a:off x="2843280" y="4076640"/>
            <a:ext cx="381636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35:16Z</dcterms:created>
  <dc:creator>Ministry of Education</dc:creator>
  <dc:description/>
  <dc:language>en-US</dc:language>
  <cp:lastModifiedBy>Administrator</cp:lastModifiedBy>
  <dcterms:modified xsi:type="dcterms:W3CDTF">2015-05-11T22:49:47Z</dcterms:modified>
  <cp:revision>8</cp:revision>
  <dc:subject/>
  <dc:title>Krystyna</dc:title>
</cp:coreProperties>
</file>