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DC44-25A2-40E1-8896-C5C8F4100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E2A1-6B7A-400F-98D5-AFF219049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87E3-4DC3-4764-B03E-2ECE63D69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EA04-6BC0-4557-85D9-60298893F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E02C-38BD-4056-8EFA-3158B4FD0D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643D-8C2F-4ECA-8600-1048C1871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B9A3-3288-411E-A4D1-131E026D4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37A6-1DC6-48AB-B76A-5F2FAC9FC4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29FC-C785-4184-B92C-A53A3D3C9A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42ED-CCB8-4B6D-8C2F-1AB9C5D23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C198-D440-41BE-9D0A-E61BA9611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09A9-8E70-47C5-9073-230D3DFF0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DFAA-A342-4ED3-BE3D-F6D95252B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585B-570E-4123-ABE8-37CFA3A513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EB81-4FA0-415C-A9C7-C04478EED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B7E8-B0C3-403A-9D1E-B46796E98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33C7-1B91-4E95-B11C-7091A36019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8F5-9E5B-4FD7-992B-BA3A0AB6B1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14C-EECE-4FA4-A940-733BE93518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206-752A-43BC-9FE1-9E0DEB9E72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4E8-2456-4BC3-8849-DCBCBD1DA8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291-357C-443B-BF2D-9AE3247C6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2F5E-D091-432F-A114-D438ED7B60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7ED-3E2A-45B6-9A1E-0982A81932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C25-88AE-48F4-849B-79063B37DE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65B-1169-4114-BC1D-1BC09BB3B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F51-0C06-42D5-B25F-95C1E91E64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94C-10FE-4600-B4A3-C2F38093C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3F6-B00D-42FB-87DC-CB8CFF763D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D96-E640-4DC4-8BA4-6C718FE587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21836-32F6-4940-97DB-C5CB32AB21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F596A-0B22-4819-89C1-9FBC44D720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B2EC-11D4-4012-9DE1-03225C789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4DF9-FA2B-4567-BCB8-24CDA792E1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E59E-3A66-4BA2-8743-6998098B0B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8FEE-720B-4481-A9FA-26066DDEB3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8FA28-8B0C-4D55-952D-DB9A7234A2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90F8-1A48-4459-AA68-CDABF6832C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81934-3BBF-403F-84C9-9EA1C46DB4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CF4DE-B232-4772-BE8B-7089E5FF99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235D9-F103-4824-AEA3-3AF4A742A0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9A33-6F65-4EEF-88C9-590EE5745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EC2A2-D760-4659-B1BC-515C91247F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D88B2-F79A-4B5B-A211-EF89AAFBB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FD47-5777-4F13-8604-1C4E30878D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8E5FB-DB08-4B7A-B608-7A1714D10B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4EB3-165B-4EA9-87FD-936108CB6A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CAC37-56F2-481C-9926-DE2047DE37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0CB5-4855-42AA-86B9-EFF47BF38A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1EC6-0379-4E20-AD2F-A8B3A75F2F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18808-ABCD-400A-981B-948C03D3B3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1015-053C-4A91-A936-98B73C1F54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7139-FC46-44EC-A21F-77676C9896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6379-666D-485D-A0EA-CF648EEAB2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411E4-A250-4E80-87D3-6CE67BEFA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E2F0-3FA3-4390-9CB8-894A419C26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5617C-F8AC-44CC-9AFA-EDECE9FDEE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5B27-1860-4438-B00F-42C2556596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1CE-24F0-4CFF-916F-B57D784D6D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AD81-8BC8-437B-89C4-66FF5EB4E6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447E-D1CB-4702-92D2-36C2AA70DB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728D-2EE5-4272-BDA7-A4269FEEF2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3EC-8864-45D0-B621-BB207BC386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26F7-E59E-4DE2-8BDF-40FCCA6681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F8E-166B-42C9-AB4C-8C209D4AC8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0116-F008-496B-87D3-2CBCEF2A9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94C6-4A94-43F5-9696-5D626FAC8B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B62-B63D-4C5B-8F10-E58A72F3B1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5823-4FB4-4BF9-B2DD-DB26607CA4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D40-D763-4A49-A669-455F7A21E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999-2705-4F73-9ED5-C197B312A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1F7D-3345-409A-9F6E-E70C0E42F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317E-E467-48EA-97FE-5BC5832F1330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F8DD-0D2F-4D77-B9E7-CD1098910663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5A7-41D3-4543-A5DC-6D9B5732A987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D031-4E49-4C1F-98D4-06F7842EF8CE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9BB-5289-49C7-A192-3576BE6559C8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9360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6828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54296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54296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580240" y="6295680"/>
            <a:ext cx="26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C137-577B-4A54-9CC1-8EBE99BA585B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700440"/>
            <a:ext cx="83059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ac9"/>
                </a:solidFill>
                <a:latin typeface="Cracked"/>
                <a:ea typeface="Cracked"/>
              </a:rPr>
              <a:t>This world ain’t perfect…</a:t>
            </a:r>
            <a:endParaRPr b="0" lang="en-US" sz="3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Dystopia is the opposite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Utopi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which means “a perfect society”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Where have we seen an Utopian society before?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dystopia would be a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mperfec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society.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otalitaria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governmen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Propaganda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is used to control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citizens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of society.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Information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independent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thought, and freedom ar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restricte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A figurehead or concept is worshipped by the citizens of the society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are perceived to be under constan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surveillance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itizens have a fear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Grande"/>
              </a:rPr>
              <a:t>the outside world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.  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live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ehumaniz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state.  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natural world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banish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distrusted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itizens confor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niform expectation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ndividuality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s ba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society i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illusio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of a per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Lucida Grande"/>
              </a:rPr>
              <a:t>utopian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world. 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often feel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rapped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and are struggling to escape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question the existing social and political system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believe or feel that something is terribly wrong with the society in which he or she lives. 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help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the audience 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recognize the negative aspects of the dystopian world through his or her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Lucida Grande"/>
              </a:rPr>
              <a:t>perspective</a:t>
            </a:r>
            <a:r>
              <a:rPr b="0" lang="en-US" sz="2900" spc="-1" strike="noStrike">
                <a:solidFill>
                  <a:srgbClr val="ffffff"/>
                </a:solidFill>
                <a:latin typeface="Lucida Grande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3960" y="14616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Hall</dc:creator>
  <dc:description/>
  <dc:language>en-US</dc:language>
  <cp:lastModifiedBy>Administrator</cp:lastModifiedBy>
  <dcterms:modified xsi:type="dcterms:W3CDTF">2014-05-25T23:01:13Z</dcterms:modified>
  <cp:revision>1</cp:revision>
  <dc:subject/>
  <dc:title>Dystopia</dc:title>
</cp:coreProperties>
</file>