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D516-8E4E-4065-8D26-899763B37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5642-B15B-48EB-8E02-0C7B7641F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515A-B7C5-43EA-AFB6-71F441364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7ACD-AF0C-4096-AF5B-A31EAD1B9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E82A-0917-4875-9079-82796A5241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F496-0C30-4BAD-95FE-DFC4AF0240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DB81-2E6B-485F-93B7-40B3479966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678C-6873-4D7F-9790-62F5DE9714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A2508-7D44-4880-8066-9CB11A4054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C84D-6A53-4C09-9BCA-1A3C4F30D3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8ABE-0C7F-46C1-BD27-6E6A8EEFA4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1AA2-49F6-4964-A743-AEC3C5A3D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7E9A-F5CE-440E-B4E5-E0B4A632BA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88CF-7FB6-4FA6-B778-8202EE699E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C156-40A2-450E-AA91-58FAC7D4E6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B886-5A30-4449-A917-5F33B2B8A2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08FF-A4D7-46BF-968A-6634A79986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B28-F0D4-40C0-BBCE-B0A18E5CD8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F4A-7A11-48F7-BD08-424239396D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EA1-E3A8-4731-B1FE-2314FBFC60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21E-7C0A-4FF5-A959-27F1052D59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DF4-31BA-427F-AD02-92D3DF569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EA76-6028-4054-AC7B-A4CE2CD4D3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65F-6F35-4BE8-8E16-77BB120DFC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533-3CEC-4342-BCB1-AA2EAF4803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5E5-C24B-4A87-8267-D02FF38970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D13-0316-45DC-B8A2-FBFA2ADC2E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E20-3A43-4F74-BF68-DFAE21EF0F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E74-7950-4946-B6ED-E94D51DF7D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371-CE12-4ADD-99BB-A1879981DF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F904C-33AA-442B-B112-C02E731660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CEA6C-33EC-40B0-8DF3-6665960E95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6314A-03B4-4DC1-A795-1F3C0490A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61E9-F34F-4EAB-A80F-A0FB67FDB1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CC0FF-2192-4378-84FB-156220B641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C39B2-8AF7-4763-9571-CA2FA126BF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8C9F2-01DD-4474-A09F-BA885DD8BA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86736-9403-47AA-8ADD-018ED78390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EE6C3-BC6D-4B61-A5D8-CD9F718161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F8D10-358E-4DF5-80A0-E9635620AF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E2666-16CA-4FCB-AB97-7A912A2CEC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D5880-3F7E-4A6C-B2B0-1DCA1EA75D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0651F-AA5B-40A4-845A-E1D5FA8C3A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42820-0278-413B-A4FA-2251086CD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7F27-5133-4F28-850F-D68337D3CD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CEA99-3081-4592-9BAF-F998B3E5167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9FF42-AF94-47A3-BC3D-3B4E9291DF5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08A09-0E12-486B-9645-8EC454C5516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349BE-F923-4DBB-AD5F-09AAD2A811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5BFC4-E4BD-41AD-8311-1DD75665AE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8BA42-D9EF-47C1-9A28-4D497FACBD9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C126B-240F-4A6B-BC0D-50CB0F391D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97991-6A4F-42E9-9CC4-D4F91A4BF1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451C7-3046-4247-9FBF-825999E47E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2E695-4CDD-4519-8291-90C34FA91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8E1C-81D2-43FD-AB5B-0CE9823332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6CF25-8C46-466F-B27E-A17AF11A9D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70CC-B6CD-407F-9B51-AD2421E7EB0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C28B-9C84-46E5-8DD3-6ABFA8DC5D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2FF6-C234-49F9-A8F6-DD72217D560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78FE-0CFF-4BB2-9BE4-C81CF54F2F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92D6-6367-40FF-B8C3-963BCA470B8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585-25D4-4735-9CF5-B29714DC67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2FFC-BB37-4A88-83D9-8DDA4602C0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4FE7-A426-477D-BF06-A7B5364DA1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53D8-1E12-4648-B21A-5FB8407AF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AFB5-5FB3-410D-9800-F5AEA98F66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0150-34DC-4DAE-B722-33F0AF0498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7BC4-212E-401F-944A-C8465C8E15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4371-EFEE-46EF-89C8-F6365F2AF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8235-4251-4EC1-A274-D479201CD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1F1D-34E7-4D0B-A216-364DA34EB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4EE2-631F-4C74-B932-9FF6DD67CD73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FC09-D9D1-49BD-AFE1-E7B4B74BA416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CDE5-80BD-4F61-847F-A6123E609A18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4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A87B-C218-4122-9EB6-15E81C337FCF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35F9-A1E4-419E-81B4-BA300BA1B8B4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6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1B01-57DD-47AE-A254-3E3F191597CE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1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8" name="Line 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3700440"/>
            <a:ext cx="830592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efac9"/>
                </a:solidFill>
                <a:latin typeface="Cracked"/>
                <a:ea typeface="Cracked"/>
              </a:rPr>
              <a:t>This world ain’t perfect…</a:t>
            </a:r>
            <a:endParaRPr b="0" lang="en-US" sz="3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Dystopia is the opposite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Utopia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which means “a perfect society”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Where have we seen an Utopian society before?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dystopia would be a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imperfect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society.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Totalitarian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governmen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Propaganda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is used to control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citizens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of society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Information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independent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thought, and freedom a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restricted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figurehead or concept is worshipped by the citizens of the society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itizens are perceived to be under constan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surveillance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itizens have a fear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the outside world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itizens live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dehumaniz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state.  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natural world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banish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distrust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itizens conform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uniform expectations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Individuality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is bad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society i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illusion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of a perfe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utopian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world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often feel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trapped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and are struggling to escape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question the existing social and political systems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believe or feel that something is terribly wrong with the society in which he or she lives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help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the audience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recognize the negative aspects of the dystopian world through his or her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perspective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3960" y="146160"/>
            <a:ext cx="8242200" cy="12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Hall</dc:creator>
  <dc:description/>
  <dc:language>en-US</dc:language>
  <cp:lastModifiedBy>Administrator</cp:lastModifiedBy>
  <dcterms:modified xsi:type="dcterms:W3CDTF">2014-05-25T23:01:13Z</dcterms:modified>
  <cp:revision>1</cp:revision>
  <dc:subject/>
  <dc:title>Dystopia</dc:title>
</cp:coreProperties>
</file>