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5A29-9419-4C90-BCDC-3B808BF66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23F9-0B07-4B19-8356-AAA694707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076D-DA3C-4B93-A1B8-D249DE88D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0A41-DB3B-4E99-9F01-59BA3E978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65DF-B81B-46E1-9757-CF60DE8A09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C830D-CEBA-49D8-BDEA-AE4329032D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2200-E27E-4B88-A0CC-52BBBF0CD7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C7F3-F361-4C37-9A79-EB04D13B93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E48D-D321-4F8D-AA03-A1154FC2C4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6C91-9E57-4421-966D-734758FE94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9F1F-29EB-41F6-8990-46BDEFF29C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DA3A-7E63-404E-8672-0E832153D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C288-35F0-4D53-A2F4-4C874D7920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2BCDD-E42E-4EA2-BE16-80D647D079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82BA3-D979-4F8A-8580-A4B06CEF98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A298-23E6-47EB-A844-76264D0E9E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5CC9-1C36-438A-A8CF-61F29D1BC1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284-6C9A-4B60-8045-70A739B8F9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BD4-13A2-4B9A-B0EE-3EBC2419DE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F9F-9B23-42DD-BDBD-BCFD551461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AFD-CF84-4E27-A862-4E29C5EE54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0F5-7CE6-409B-8DD1-FF3FB4C38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E563-3F4E-413B-AE32-EC068A6916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774-9062-42C3-AAE9-73A9E866CB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902-C5CA-415C-9B24-F9F06E7BE6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B01-5F0F-4117-8028-E70A39A10E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8E8-46B0-4882-842D-80BC448A96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049-D2B0-4099-8AF8-F7B97DD4DB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D11-4AD2-47C7-BD49-EED67F6251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978-25B0-4945-8DA2-92505AA8A2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46D32-503E-4EC7-86DB-9774AB32D6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551B6-5F12-4CA8-A525-1E8B3A84CF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52781-C886-4397-98ED-4C93FE724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FE7B-E14A-40D4-9CEC-43C7134D20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4A826-44A5-4B17-AE7A-4D2031F7D9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F032A-A848-4C85-9094-8B12DF3BD3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237E5-392A-49AA-AA01-A9160CD299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57A61-E92C-422D-851C-FE51E1A514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CA4AC-E7BA-4042-BEC8-F9656980F5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8A610-B3FD-4111-81D5-1DAD832AF5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9A47F-2877-4979-8917-409A7F2526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C019A-1386-4F99-8FB4-C494F153B5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E4FE1-00B3-4AA6-BDE4-E7DC40C06B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FD72B-4405-4A0C-A11C-EA2785E9C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5E90-D748-4F2F-819D-BD9F10CAEC9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035EE-97A1-4EF2-A373-82B1321FCCD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CB6F0-6A15-4F63-B932-603802CB02F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CDAAA-32EC-4970-A7B9-6B43B6612EF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4A417-5C10-4BCF-B52B-6E1EBB0CC8A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59CEE-5888-4607-B800-0128CAD174A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124B4-5544-4FB4-997D-FDAFB45BECC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4B5CA-05C8-4E73-9B6E-804D27116D3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E3872-D9FB-48FE-BF67-5935E2BF95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5865E-86E9-40DB-8FD3-C8BB51C36F9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E6965-E3AC-467F-8017-86DFB79E0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5919-6953-4468-A4C2-38C1EFF0C6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2E520-40D8-4914-A883-C287D12381B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3143-BB28-4431-850E-6B805C5CF5D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7685-395C-44AD-BACE-3F41EE6ED6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CBD4-B7AE-430C-A610-865FB81F583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A26D-F27A-45FF-84BA-9D26B3FC44C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D112-4613-43DC-B097-8181B4662AD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C2CB-798B-4236-98E2-3446FEFA1F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0A46-741F-40C8-9848-BF41D6EDB69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6498-14FB-47BC-ACE5-90804B9D4B4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B379-8DFE-43DD-B3F0-4F9EF2FD4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7530-7CF3-41A5-86D7-E0116E886E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7CCE-A63F-44AB-86F5-D689613E72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000A-3EE3-40EF-A535-7FB7C415037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D06B-0272-4210-8AF3-3DC2C9CEA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B5F9-691B-401D-B314-9FCCCDCA8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84D3-20FC-41BD-9B6D-2F9E76BC7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F60E-C0AA-4E7E-821E-270817693974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63E9-BFF5-4576-B0F0-28446EC02491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9509-1C49-4336-8F8D-C5145CA95ADE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4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794C-9CCC-47F1-A532-F0C9B18E5197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5D2F-0515-4DBE-A6A8-0C2A73EA09FC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6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CFFA-6A8B-47F3-AB1F-D548F46BA6AE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1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8" name="Line 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3700440"/>
            <a:ext cx="830592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efac9"/>
                </a:solidFill>
                <a:latin typeface="Cracked"/>
                <a:ea typeface="Cracked"/>
              </a:rPr>
              <a:t>This world ain’t perfect…</a:t>
            </a:r>
            <a:endParaRPr b="0" lang="en-US" sz="3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15280" cy="19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Dystopia is the opposite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Utopia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which means “a perfect society”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Where have we seen an Utopian society before?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A dystopia would be an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imperfect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society.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A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Totalitarian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governmen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Propaganda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is used to control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citizens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of society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Information,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independent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thought, and freedom ar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restricted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. 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A figurehead or concept is worshipped by the citizens of the society. 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itizens are perceived to be under constant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surveillance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itizens have a fear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the outside world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. 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itizens live i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dehumanized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state.  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e natural world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banished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distrusted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itizens conform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uniform expectations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Individuality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is bad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e society is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illusion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of a perfec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utopian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world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often feel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Lucida Grande"/>
              </a:rPr>
              <a:t>trapped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 and are struggling to escape. 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question the existing social and political systems. 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believe or feel that something is terribly wrong with the society in which he or she lives. 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help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Lucida Grande"/>
              </a:rPr>
              <a:t>the audience 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recognize the negative aspects of the dystopian world through his or her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Lucida Grande"/>
              </a:rPr>
              <a:t>perspective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3960" y="146160"/>
            <a:ext cx="8242200" cy="12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 Hall</dc:creator>
  <dc:description/>
  <dc:language>en-US</dc:language>
  <cp:lastModifiedBy>Administrator</cp:lastModifiedBy>
  <dcterms:modified xsi:type="dcterms:W3CDTF">2014-05-25T23:01:13Z</dcterms:modified>
  <cp:revision>1</cp:revision>
  <dc:subject/>
  <dc:title>Dystopia</dc:title>
</cp:coreProperties>
</file>