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1BCA-1E07-4B3B-800B-0D387EC3D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6D92-D7CB-4374-A660-B735E4784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D1B1-627E-4B77-972F-798675FB6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3717-63AE-470A-A90B-265253B9C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AE34-D546-4DB9-991D-773E0AA5B5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05091-337A-46A8-9B61-BBF7C5887E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A1F48-B7BA-4DF2-8777-86C7A33638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A2040-D180-431A-8233-FE982A9000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354E-04F3-45D8-AEF0-1B52154857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7FD6C-C915-4AC8-AAF6-52481C1238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35DE5-E264-44FA-82C5-9ADAB84332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B221-036C-49C3-AB82-0D21A7703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9C1A-2E10-4675-AFAE-BE56936C6E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B47CB-CBB8-4721-9B79-F4C702C18D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35E93-6719-4221-B39D-0F046E7D9B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D236-8E27-4B25-8381-C9FC0F20E2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5F75-F279-49B4-91DF-9641CAFDE3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7B3-6322-47F9-813E-DCA26DD489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2F2-110C-4EB2-AEA3-5D3D717E42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E6B-5F90-498C-95DC-FAA33850E0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7583-6BAE-4271-954F-63E4560FEF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DD2-4AD9-474A-B5B9-1089C56D35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F35DD-A832-4AB9-9265-2904FF5994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956-6CE6-4C99-B1B1-FE58FC6936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E3A-EFBD-4801-A221-D8E828B9BC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2FC-0570-44A0-ABB9-B54067DDB0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890-5A76-4497-9F76-27F80A0C6C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7FE-8096-4D4E-9EB8-684A030259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2A11-608E-43EA-9761-B245DF4670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3064-5D30-406F-9AB6-B5F238FBA7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23919-3910-4E8B-B7B4-D400F206D0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A0642-3E98-49D5-9DD3-396DB2FE44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1A535-752F-4FFA-89DB-03ACD5BF0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505C-64F0-4F6D-8A0A-E2518EDE1C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BE134-6731-4F2B-B98E-15EE263F46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00242-51FE-400F-9960-DDE6CCC9DC3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6304A-528D-4C63-B01B-034D01E8CE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D1CA7-16F9-481D-ACE5-BAAA674AED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609E5-06CA-405B-BEF1-AE987C8C04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087DC-2743-4329-8034-A70567A7A1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07E75-BE9C-46BD-8419-F3E86F3248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12AB9-3B3D-44A1-A689-B62C63B7EC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2E30A-2AB7-44DC-AD09-3F2C1C26058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7D080-800F-42FF-9669-06F68D5D4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FEB4-3D2A-4315-AEA5-FF85DA23C2A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FA897-CE77-4CAA-9CCC-566D025112E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A5C62-1766-4081-8B78-36DAFF4D10C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06DD0-0DCB-4DA7-BD07-8117997370B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C667F-B388-4F55-8D6B-722C6546D96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7FAD9-B20E-41CE-A35A-9294A8609E8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D9DDF-E89D-49D0-B958-2D0CAD0C476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C9BEB-480F-48D8-9F2F-45A5AE4480F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52837-7723-4863-8542-7C76CFC5257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84516-B803-4017-B3FF-5EF5C314CAC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F0CC8-4500-470B-B4BD-66A320CC3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4F66-894B-4F26-A927-84E6DF08E08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397DD-51DF-4E60-8DE5-F037D7F55C8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F42F-4CA2-4E10-9C48-AB215FE2490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C504-6835-49C0-B932-93C1FFD7A33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BC47-0884-4232-A294-52E5E91304B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6C51-EE4F-4B76-96F3-FC8E7C7D69C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9D83-BA91-41B1-8D14-AA10CCBCC84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E789-19A4-4A73-A745-3519F1235DC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DE72-CFAF-429C-9094-4FA862FC764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25D4-BBB9-4700-B36D-596D6056D68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54B2-4E34-4C28-B883-D799B37DC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6354-35FE-488E-AFAD-43A9245AB97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4A00-5FE4-4882-A476-2FAA10A3390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E773-37DF-4308-8DEE-F5A86288FB5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9227-456A-4B0D-B359-7E3AD4BE0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983B-89FE-4A41-BAB2-8ECFD77CB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BE40-6BF9-4DAB-B1F8-F927D835A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AC32-0252-4C5E-89CE-9EB064D70FCB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0F64-7370-4755-ABF9-9D430F8B2F93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1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00BC-5AB6-448D-B684-84706A0BE9C8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4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5C90-4C64-4CD1-B229-134C5FD4F366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5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8DA2-4542-416F-821B-83F091A9C555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6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B368-3116-472A-BDAD-50660536A016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1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8" name="Line 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9" name="Oval 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80808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3700440"/>
            <a:ext cx="830592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efac9"/>
                </a:solidFill>
                <a:latin typeface="Cracked"/>
                <a:ea typeface="Cracked"/>
              </a:rPr>
              <a:t>This world ain’t perfect…</a:t>
            </a:r>
            <a:endParaRPr b="0" lang="en-US" sz="3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15280" cy="19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Dystopia is the opposite of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Utopia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which means “a perfect society”.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Where have we seen an Utopian society before? 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A dystopia would be an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imperfect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society. 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A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Totalitarian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governmen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Propaganda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is used to control 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citizens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of society.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Information,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independent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thought, and freedom ar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restricted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.  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A figurehead or concept is worshipped by the citizens of the society.  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itizens are perceived to be under constant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surveillance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itizens have a fear of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the outside world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.  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itizens live in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dehumanized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state.  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The natural world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banished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distrusted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itizens conform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uniform expectations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Individuality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is bad.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The society is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illusion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of a perfec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utopian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world.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often feel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Lucida Grande"/>
              </a:rPr>
              <a:t>trapped</a:t>
            </a: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 and are struggling to escape.  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question the existing social and political systems.  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believe or feel that something is terribly wrong with the society in which he or she lives.  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help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Lucida Grande"/>
              </a:rPr>
              <a:t>the audience </a:t>
            </a: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recognize the negative aspects of the dystopian world through his or her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Lucida Grande"/>
              </a:rPr>
              <a:t>perspective</a:t>
            </a: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3960" y="146160"/>
            <a:ext cx="8242200" cy="12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k Hall</dc:creator>
  <dc:description/>
  <dc:language>en-US</dc:language>
  <cp:lastModifiedBy>Administrator</cp:lastModifiedBy>
  <dcterms:modified xsi:type="dcterms:W3CDTF">2014-05-25T23:01:13Z</dcterms:modified>
  <cp:revision>1</cp:revision>
  <dc:subject/>
  <dc:title>Dystopia</dc:title>
</cp:coreProperties>
</file>