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10D2-D34D-4FD5-8A8B-BB69566663C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41E4-BF87-4C90-9FFD-F7812042E663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124-1DD3-44D8-AFEC-B89D24EC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8261-2D4A-4210-985C-F0BC7E2F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5B7-8B6E-4556-A51A-0816E92F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AB9-0F84-4E9B-AE7A-47F84D05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80B0-A5D0-462D-9348-1CE3708F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98EE-73A6-43AB-803F-4BE25EB9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56D4-12D0-4BE7-A70B-8A5EFDB1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BC73-7A72-4962-9E60-27D4BDFB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851E-43F9-47FE-B1A3-32683009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51CE-9454-46D7-AEED-F91B87E1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4D20-0655-445B-96FB-51FD2B2E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53A1-B03C-433E-ADB2-0C07F9C1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F9D2-0D81-4CFA-8A4F-098E2908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5694-795F-42BD-928B-0E41870F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8725-A2F6-4A62-B72D-01D7B76D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5739-EA14-4A99-903D-6CE0B0EE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4B08-ADDE-48A8-8A6A-0F9576E5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47728-91A6-4939-A6E4-5B717460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2AAFD-C9C5-4452-998D-1A44A027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7F78F-D5E3-4E03-A0CF-B54F65D6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408EA-AC43-484C-8079-AD32533F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774BB-9275-4988-A03F-30B89472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D92-E5A1-4457-86D6-923BE0A8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DA502-5D0D-43C4-B488-0764091F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5257-FA58-4DBE-9810-EB6705C8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64484-8AC6-4188-8FCE-D225E372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B5DB-92FC-4E99-8635-F0071207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A40D2-3769-4850-B51C-32E5851E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D647F-F813-47AD-94F3-0130CF32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045A9-E22F-4CDF-AA1B-3F9A2618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D6E1B-3187-4711-A823-1E45961D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018C6-5E32-40B7-BB83-1A007209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BD49F-7270-4103-8C2D-9CBDF9C2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0E7-F924-415D-875C-9010240C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7AF4-3CFD-4EFC-8FC3-76008003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B77A6-C72E-4BED-9B88-2984921F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15FCB-12F9-414B-9315-5AB2542E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13CF-77EF-4367-B929-9157C65C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46857-B100-42BE-84F6-A84DA79E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0B821-49DB-4B24-A3CD-C4989BBC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0303D-99E6-4F21-A308-07602020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9B62B-C733-4235-811B-07816431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E0E7C-A8B4-410D-9FE4-43D406A7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36EB1-997E-4D2D-903C-57F4B451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591-56A2-416B-862E-AFDAF6B7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53BAA-1155-4C88-B962-8BEEE526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9BF2D-DDD1-4878-B7E2-65B3D108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CD183-D258-4F66-AC10-90158B01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A1C67-0D37-43FC-853F-0E510C38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CA19F-9866-4141-8A2D-380DFD18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2B79E-F2C9-459A-975F-68BEABF0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0ECBA-4192-439F-BF5B-0973FA34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21692-3ABC-440A-9D52-6C2DEFFE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D36CD-F50F-41D3-AD6F-F8E9E587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BCA7C-4D17-4DD9-A45F-77D1855B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BBA-3A45-481B-8789-1F855CDA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91695-4AA1-4F6E-A740-2293DB4A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6B173-1393-43D6-9A3E-637D38E6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CD10F-4B37-46D8-812C-8F7A5BF5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75D84-3B6B-4893-B7FE-029A860B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49BDC-2492-46B2-8ED9-0F48C6BC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65ABA-7E40-4C54-9183-CBBA2E4B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3D157-7B68-4079-9CA5-0FD5CB4D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8C6C0-340C-48FD-A04E-6B170BD1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15202-8BA0-4453-9959-A6B7F67F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4ED19-333A-4628-90FE-F2A39E80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073-91B8-4F77-AF6B-98907C72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1265B-F478-401E-8FE0-C8AEFEDE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F0988-0B16-49FD-8DC6-4F944CDB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F0BD7-A117-40A7-9362-83F0CD9D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1B3-65CE-44C4-B65C-E64698A2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978-7AF2-4FB1-B8B4-7A08EC66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D312-28CC-4027-9EBE-C57A2E75ADAF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D617-A7A6-4311-86E2-A67357B6ADAD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7F1D-3279-4BD7-B838-8D1C20C73322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114C-64FF-408E-87E1-1EF9C6B9345D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638D-33F1-439E-B789-ABEF556ECC4E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C3B2-8C4F-4ED1-8B89-DAA5ED938A9F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E COMMODIFICATION OF THE ART OF THE FIL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64260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In dystopias, advertising techniques recognisable by a modern audience are used to brainwash the masses – see </a:t>
            </a:r>
            <a:r>
              <a:rPr b="0" i="1" lang="en-NZ" sz="3000" spc="-1" strike="noStrike">
                <a:solidFill>
                  <a:srgbClr val="ffffff"/>
                </a:solidFill>
                <a:latin typeface="Arial"/>
              </a:rPr>
              <a:t>1984 &amp; The Handmaid’s Ta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Dystopian heroes are usually rebels, often initially unwilling rebels, who are forced to try and deceive or defy the status quo in order to achieve something for the greater goo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3200400" cy="7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800" spc="-1" strike="noStrike">
              <a:solidFill>
                <a:srgbClr val="6ea0b0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Arial"/>
              </a:rPr>
              <a:t>In 1984 modern mass media – wall screens and films - are used for overtly propagandist purpo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Content Placeholder 4" descr="1984-movie-bb_a1.jpg"/>
          <p:cNvPicPr/>
          <p:nvPr/>
        </p:nvPicPr>
        <p:blipFill>
          <a:blip r:embed="rId1"/>
          <a:stretch/>
        </p:blipFill>
        <p:spPr>
          <a:xfrm>
            <a:off x="154080" y="1214280"/>
            <a:ext cx="89564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What is Genre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e know that genre is a type or category. We usually use it to refer to literature or 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Like all classification systems, genre is a construction of the human mind, a way of sorting things out according to what they are li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n film, genre has been consciously used by production companies for many years to create films that will sell to selected audiences. It is a way of ensuring as far as possible that the film will create the expected response in the aud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Why does it work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We like to think that we are unique individuals. If we were, then genre wouldn’t work, because there would be no way anyone could predict what our response to a film might b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Genre works by using conventions to manipulate our emotional responses to a fil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How it work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Film techniques are used to set up responses that are often almost unconscious. The fact that they work is attested by the shared emotional experience of an audience to a fil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Genres appeal to different hopes, fears, desires, dreams and preoccupations that we have and, to a certain extent, sha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Genres in </a:t>
            </a:r>
            <a:r>
              <a:rPr b="0" i="1" lang="en-NZ" sz="4600" spc="-1" strike="noStrike">
                <a:solidFill>
                  <a:srgbClr val="ffffff"/>
                </a:solidFill>
                <a:latin typeface="Franklin Gothic Book"/>
              </a:rPr>
              <a:t>Children of Me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oad Movies – these include films like </a:t>
            </a:r>
            <a:r>
              <a:rPr b="0" i="1" lang="en-NZ" sz="2400" spc="-1" strike="noStrike">
                <a:solidFill>
                  <a:srgbClr val="ffffff"/>
                </a:solidFill>
                <a:latin typeface="Arial"/>
              </a:rPr>
              <a:t>Thelma and Louise,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Arial"/>
              </a:rPr>
              <a:t>Easy Rider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NZ" sz="2400" spc="-1" strike="noStrike">
                <a:solidFill>
                  <a:srgbClr val="ffffff"/>
                </a:solidFill>
                <a:latin typeface="Arial"/>
              </a:rPr>
              <a:t>Goodbye Pork Pie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will involve a journey, usually to get away from someone, something etc. The journey will become more difficult and complicated as the story progr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elationships will change in the course of the journey – discoveries are made, people become closer or are driven apart, characters’ lives are transfo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s the end of the journey approaches, tension builds towards the film’s climactic mo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85480"/>
            <a:ext cx="3200400" cy="7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6ea0b0"/>
                </a:solidFill>
                <a:latin typeface="Franklin Gothic Book"/>
              </a:rPr>
              <a:t>THELMA AND LOUISE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ONFRONTATION AT THE ROAD H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Content Placeholder 4" descr="Thelma_%26_Louise.jpg"/>
          <p:cNvPicPr/>
          <p:nvPr/>
        </p:nvPicPr>
        <p:blipFill>
          <a:blip r:embed="rId1"/>
          <a:stretch/>
        </p:blipFill>
        <p:spPr>
          <a:xfrm>
            <a:off x="3714840" y="-214200"/>
            <a:ext cx="528624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ffff"/>
                </a:solidFill>
                <a:latin typeface="Franklin Gothic Book"/>
              </a:rPr>
              <a:t>Science Fiction.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All science fiction is based on a theoretical possibility – a “what if” – that is capable of scientific explanation. Hence </a:t>
            </a:r>
            <a:r>
              <a:rPr b="0" i="1" lang="en-NZ" sz="2600" spc="-1" strike="noStrike">
                <a:solidFill>
                  <a:srgbClr val="ffffff"/>
                </a:solidFill>
                <a:latin typeface="Arial"/>
              </a:rPr>
              <a:t>Star Wars</a:t>
            </a: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 is science fiction, while </a:t>
            </a:r>
            <a:r>
              <a:rPr b="0" i="1" lang="en-NZ" sz="2600" spc="-1" strike="noStrike">
                <a:solidFill>
                  <a:srgbClr val="ffffff"/>
                </a:solidFill>
                <a:latin typeface="Arial"/>
              </a:rPr>
              <a:t>Harry Potter</a:t>
            </a: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 is fantas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In sci-fi, we expect to see characters exploring the possibilities and grappling with the consequences of future change. As a rule, we do not expect to see the world as we know it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85480"/>
            <a:ext cx="3200400" cy="7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ea0b0"/>
                </a:solidFill>
                <a:latin typeface="Franklin Gothic Book"/>
              </a:rPr>
              <a:t>BLADERUNNER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FUTURISTIC BUILDINGS – THE TYRELL CORPO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Content Placeholder 4" descr="Bladerunner_tyrellbuilding.jpg"/>
          <p:cNvPicPr/>
          <p:nvPr/>
        </p:nvPicPr>
        <p:blipFill>
          <a:blip r:embed="rId1"/>
          <a:stretch/>
        </p:blipFill>
        <p:spPr>
          <a:xfrm>
            <a:off x="146160" y="2071800"/>
            <a:ext cx="8997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57120" y="214200"/>
            <a:ext cx="392904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7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Future societies are usually portrayed as either recognisable variants of contemporary society (</a:t>
            </a:r>
            <a:r>
              <a:rPr b="0" i="1" lang="en-NZ" sz="3100" spc="-1" strike="noStrike">
                <a:solidFill>
                  <a:srgbClr val="ffffff"/>
                </a:solidFill>
                <a:latin typeface="Arial"/>
              </a:rPr>
              <a:t>Star Wars; I, Robot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) or as </a:t>
            </a:r>
            <a:r>
              <a:rPr b="0" lang="en-NZ" sz="3100" spc="-1" strike="noStrike" u="sng">
                <a:solidFill>
                  <a:srgbClr val="ffffff"/>
                </a:solidFill>
                <a:uFillTx/>
                <a:latin typeface="Arial"/>
              </a:rPr>
              <a:t>Dystopias.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 In the former, the social and political setting is relatively unimportant; in the latter, it is very important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7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6160" y="0"/>
            <a:ext cx="450072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ystopias are political sci-fi, that play on nightmarish expectations of a future world characterised by harsh, devious, authoritarian and dictatorial governments; technology used to control, restrict and delude people; the heavy and obvious presence of security forces; and the absence of normal concepts of civil society – no civil rights; often basic human activities (such as childbirth and child-rearing) are interfered wit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01:49:06Z</dcterms:created>
  <dc:creator>Harold</dc:creator>
  <dc:description/>
  <dc:language>en-US</dc:language>
  <cp:lastModifiedBy>Ministry of Education</cp:lastModifiedBy>
  <dcterms:modified xsi:type="dcterms:W3CDTF">2008-07-27T09:42:18Z</dcterms:modified>
  <cp:revision>11</cp:revision>
  <dc:subject/>
  <dc:title>GENRE</dc:title>
</cp:coreProperties>
</file>