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FA61-519F-4BD7-8EA1-DA0CA96B745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E100-B9EF-4806-BAA6-A42B732503BD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3E5-A93C-4F73-BB3A-A4634A22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4E4-A0BF-4097-862C-C8A068A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920-F627-4811-8413-603A92B2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D2B-F230-432C-9373-F5D48098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D92-7F7E-4356-A742-48BE753F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4F0-6FCB-4942-9D0E-E325E6C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A98-F4A3-43F5-A8ED-9C8FABD1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9C94-722E-432D-AB39-93D27EC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0B5-347E-4DE7-8264-76927E9E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94C4-5186-4976-A437-BE9FA77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C566-9811-453C-AECF-11B8C62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CD6-4EA9-4CB1-B2E3-A8D89D4D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7881-AC00-4053-805E-0E69134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394-39FA-46CE-B5B2-FA6C506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E19-38CC-4AA5-8EE6-E3CCC26F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4E60-CF80-4A58-B8E5-1FAC73CA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6DA0-D5B3-49D8-A45F-52192A3A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FF93-844C-4E43-9CFB-CAE1A052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27B5-25FD-4CA9-9E72-B0E1F9D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4AB9-94BC-4649-991A-16953EA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904E-899D-4A29-B319-7DF1FF7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869F-7A67-42E6-B4FC-3FCF8B9A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B6C-A274-48A9-A9A8-EE2EBB9D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6634-8075-47B9-AFDF-C8D6DBE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7A07-93E4-411F-A0DC-DE1BA6F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E18F-1E66-4EB2-84E4-C716BCD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491D-9AA4-425C-A9CB-EC18653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C7EB-504E-4E64-918C-5E06E0F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2D5C-BCA6-4FAA-A78F-A3A9ED47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7B60-4532-41F9-9A98-0C5D8AE6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E254-5940-4A1A-BC58-74B311BA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0039-8E9B-4614-9943-BC0C0F3D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5238-76E2-4226-95F7-91B27B8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7AA-CE4A-4196-A44C-65305405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12AB-AF3C-463E-B33B-C8FC2C0E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CA5C-3F25-488A-8DB7-AD4705F0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E1C9-6365-4870-AB36-A6A66D7E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FEC8-42CD-46FE-B505-80921B9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C326-34E9-4258-A5A9-39870A2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39F1-B920-4F87-A41C-FD6A47D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EA37-8B31-439C-864A-C182A13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6CC5-CB87-432D-8707-45F196B7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87D6E-EF36-4C27-8BAD-41A95F64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67EF-A06C-4B1E-87F3-F67DFE3E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D4B-42EC-49A5-9080-2566D46A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D09C-9C09-4589-9905-E20DF93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ED2E-1DE1-44A4-85D9-B3257F5B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20B8-45A7-410F-A4F6-EB11EE6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B4EB-F70F-44C1-9272-552166B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700C-3EB2-4AC4-B94B-07FF5FB1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F161-D0D8-49B9-831A-EDAE805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F2CA-D5FF-4BF1-860E-FBD1D12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A799-1D5E-431E-87A8-705BFF2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3A80-7319-469B-BD45-62F9910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1360-9A36-42D2-A0AB-ECC37208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FBA-696D-4138-B9E7-AFDBC739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771C-99EA-439E-BF21-D5B480BE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DEE8-30CE-4940-9C6D-C674C8D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65D6-8955-41F0-95E1-8F0A48C9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1B5F-DFF6-40D6-AE5D-4CD6B16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021F6-526A-43AB-9B1B-6FA5F9A5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DB8A-9B7D-47C5-9BF7-440E64A2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4C142-5547-431D-B11E-7B8ACCD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A67B-F16B-4C84-82FD-184DCF4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D6CB-D69A-46D0-8551-6FD5570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C726-E3B8-4094-A36F-29D7EC0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121-B3BA-4188-9D65-ED9FC52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74B6-48D7-4AF7-8D1B-3F2E280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9DCE-2B9D-417C-80F2-083B5955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5D84-2AEA-4739-A0F1-EA02730B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146-7DFE-4AF7-93CE-BC1627F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39D-2A56-4252-84E8-46C498F0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5DA-B9B0-4E84-94F4-C997E469D263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20F-BAE0-4F32-B095-BF729501391B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DED-3974-4D21-A54E-DE1B6395A5FF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6878-76AA-4A76-BDDE-5A38B69DD1E5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560C-EDA0-42F7-8A01-959D8C71CD61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11C-884D-424A-A816-6B093A80A38B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COMMODIFICATION OF THE AR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64260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n dystopias, advertising techniques recognisable by a modern audience are used to brainwash the masses – see </a:t>
            </a:r>
            <a:r>
              <a:rPr b="0" i="1" lang="en-NZ" sz="3000" spc="-1" strike="noStrike">
                <a:solidFill>
                  <a:srgbClr val="ffffff"/>
                </a:solidFill>
                <a:latin typeface="Arial"/>
              </a:rPr>
              <a:t>1984 &amp; The Handmaid’s Ta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ystopian heroes are usually rebels, often initially unwilling rebels, who are forced to try and deceive or defy the status quo in order to achieve something for the greater g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Arial"/>
              </a:rPr>
              <a:t>In 1984 modern mass media – wall screens and films - are used for overtly propagandist purpo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Content Placeholder 4" descr="1984-movie-bb_a1.jpg"/>
          <p:cNvPicPr/>
          <p:nvPr/>
        </p:nvPicPr>
        <p:blipFill>
          <a:blip r:embed="rId1"/>
          <a:stretch/>
        </p:blipFill>
        <p:spPr>
          <a:xfrm>
            <a:off x="154080" y="1214280"/>
            <a:ext cx="8956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at is Genr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know that genre is a type or category. We usually use it to refer to literature or 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ike all classification systems, genre is a construction of the human mind, a way of sorting things out according to what they are l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film, genre has been consciously used by production companies for many years to create films that will sell to selected audiences. It is a way of ensuring as far as possible that the film will create the expected response in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Why does it work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 like to think that we are unique individuals. If we were, then genre wouldn’t work, because there would be no way anyone could predict what our response to a film might b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 works by using conventions to manipulate our emotional responses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How it work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Film techniques are used to set up responses that are often almost unconscious. The fact that they work is attested by the shared emotional experience of an audience to a fil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Genres appeal to different hopes, fears, desires, dreams and preoccupations that we have and, to a certain extent, sh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Genres in </a:t>
            </a:r>
            <a:r>
              <a:rPr b="0" i="1" lang="en-NZ" sz="4600" spc="-1" strike="noStrike">
                <a:solidFill>
                  <a:srgbClr val="ffffff"/>
                </a:solidFill>
                <a:latin typeface="Franklin Gothic Book"/>
              </a:rPr>
              <a:t>Children of M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oad Movies – these include films like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Thelma and Louise,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Easy Rid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Goodbye Pork Pi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will involve a journey, usually to get away from someone, something etc. The journey will become more difficult and complicated as the story prog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lationships will change in the course of the journey – discoveries are made, people become closer or are driven apart, characters’ lives are transfo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s the end of the journey approaches, tension builds towards the film’s climactic mo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6ea0b0"/>
                </a:solidFill>
                <a:latin typeface="Franklin Gothic Book"/>
              </a:rPr>
              <a:t>THELMA AND LOUIS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NFRONTATION AT THE ROAD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4" descr="Thelma_%26_Louise.jpg"/>
          <p:cNvPicPr/>
          <p:nvPr/>
        </p:nvPicPr>
        <p:blipFill>
          <a:blip r:embed="rId1"/>
          <a:stretch/>
        </p:blipFill>
        <p:spPr>
          <a:xfrm>
            <a:off x="3714840" y="-214200"/>
            <a:ext cx="528624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Franklin Gothic Book"/>
              </a:rPr>
              <a:t>Science Fiction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All science fiction is based on a theoretical possibility – a “what if” – that is capable of scientific explanation. Henc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Star Wars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science fiction, whil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Harry Potter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is fantas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In sci-fi, we expect to see characters exploring the possibilities and grappling with the consequences of future change. As a rule, we do not expect to see the world as we know i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ea0b0"/>
                </a:solidFill>
                <a:latin typeface="Franklin Gothic Book"/>
              </a:rPr>
              <a:t>BLADERUNNER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TURISTIC BUILDINGS – THE TYRELL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Bladerunner_tyrellbuilding.jpg"/>
          <p:cNvPicPr/>
          <p:nvPr/>
        </p:nvPicPr>
        <p:blipFill>
          <a:blip r:embed="rId1"/>
          <a:stretch/>
        </p:blipFill>
        <p:spPr>
          <a:xfrm>
            <a:off x="146160" y="2071800"/>
            <a:ext cx="8997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214200"/>
            <a:ext cx="392904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Future societies are usually portrayed as either recognisable variants of contemporary society (</a:t>
            </a:r>
            <a:r>
              <a:rPr b="0" i="1" lang="en-NZ" sz="3100" spc="-1" strike="noStrike">
                <a:solidFill>
                  <a:srgbClr val="ffffff"/>
                </a:solidFill>
                <a:latin typeface="Arial"/>
              </a:rPr>
              <a:t>Star Wars; I, Robot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) or as </a:t>
            </a:r>
            <a:r>
              <a:rPr b="0" lang="en-NZ" sz="3100" spc="-1" strike="noStrike" u="sng">
                <a:solidFill>
                  <a:srgbClr val="ffffff"/>
                </a:solidFill>
                <a:uFillTx/>
                <a:latin typeface="Arial"/>
              </a:rPr>
              <a:t>Dystopias.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In the former, the social and political setting is relatively unimportant; in the latter, it is very importan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7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6160" y="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ystopias are political sci-fi, that play on nightmarish expectations of a future world characterised by harsh, devious, authoritarian and dictatorial governments; technology used to control, restrict and delude people; the heavy and obvious presence of security forces; and the absence of normal concepts of civil society – no civil rights; often basic human activities (such as childbirth and child-rearing) are interfered wi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01:49:06Z</dcterms:created>
  <dc:creator>Harold</dc:creator>
  <dc:description/>
  <dc:language>en-US</dc:language>
  <cp:lastModifiedBy>Ministry of Education</cp:lastModifiedBy>
  <dcterms:modified xsi:type="dcterms:W3CDTF">2008-07-27T09:42:18Z</dcterms:modified>
  <cp:revision>11</cp:revision>
  <dc:subject/>
  <dc:title>GENRE</dc:title>
</cp:coreProperties>
</file>