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CD53-75EC-4C2A-B3CB-AB2A44AA21B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0362-B839-444F-852A-3E5A7BFC7D9E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F86-73AE-4162-91CD-953C7DD6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057-5052-42F2-B496-B68AF1D8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BF6-56E9-47F2-A96A-C9E99961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6A4-F74B-4C15-8F33-1D204FA3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92CD-26C6-4DF8-B38F-64C41289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0877-EE6F-4FC4-A72B-3736B87E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25CA-0A6B-4CE5-929B-DB7EC5C1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3672-E550-40F2-85E7-C2C92C45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3D4C-CC7A-4A4F-8668-1EC34238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C9DE-847F-4015-8BA5-86BFFEE7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40CE-D97C-449E-9752-A6B4B9C4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D0A-4E1C-4E29-AAA5-3AFC57EB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BEA4-5FED-41CD-BE75-9238ACE7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3E81-3F2D-4892-9314-C6E2F63A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BA38-F17B-4AC8-8C40-818FECB6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959B-8CAD-4785-A888-46905221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D8BD-1563-4E9B-A6D0-02909D67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F0228-CA7E-4410-95A0-4BC111E1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15A8A-9364-47D6-B4FC-70FC0CA2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36F6A-32E5-49C6-BCCE-A43ECE55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ABE5F-9214-43EA-B1B5-30203FDF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1EA55-400E-484B-BA8B-717219C3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7C4-6CB1-469A-B302-74C193EB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D054F-126C-4F2D-B8D0-63036288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3485C-F346-49D4-A4EE-AE13C76B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37D1A-0C72-460B-B9AB-A1B6B755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4CBE4-B04F-43B6-823D-BC473A12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C4611-17FB-4A9E-98BD-F43FB2B1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8DDD8-489A-422E-B07E-33BC2F90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1823D-F50B-42A3-8766-73CFD955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E3777-228C-4F99-BAA3-04F9ACFB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2ED17-4442-4435-A196-0EDEA101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849E2-0074-40ED-A666-033C2F5D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0CA-AC01-4EB9-8C7D-7A05F40F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7F548-5615-4BBC-8D41-AAFC5FA9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0E63D-75AA-482F-83C4-49778563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3A418-E0E6-41DD-A157-B4377C4E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23FBE-FB10-4072-95D4-7AD0A0D1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84872-0ECA-46AE-8E78-FCDFC718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6DFD1-F049-4D7E-B7BF-23B3AB03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521A2-FF74-4EEB-B25B-5EBD2742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8B07B-F00C-4442-9141-6103D163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06579-4419-42EF-A4F6-B1106273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37853-A2CC-4CAC-9521-6E2CD8EF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540-D0EB-4ED4-9BB4-704614BA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F4021-061A-4383-8913-CE3293EB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039D4-4648-4B0F-BCEE-4E5030DF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60440-ACDF-4B97-9771-01FAF6CC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9A0FD-77B5-4D9A-BC4D-500BE198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FE210-2686-48E6-8335-7BBB7DB5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4FA47-A796-4CEF-B69E-DD992BB5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DDAB6-1FC3-4719-A540-6A6DDA77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C9B1F-E0B8-41A9-A772-09B24843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55D2C-27C2-40CA-9600-852CE7E3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21970-084E-4D21-9CC9-29377BB7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451-6FCE-4FA0-939F-C0225BBA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A6892-0A19-454D-AB84-AD0D01EF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D45AA-CBA6-4C5C-A59B-10612304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B4A86-5209-4447-AAD8-C9D89670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9A869-6173-41FA-94DA-2C60DCFB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BEC3C-F259-4D05-B61E-2C7B598C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E08AD-CD58-4DF6-BBFD-12663D73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E3C1A-C38B-45F3-92A0-564E5140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F7D71-F84A-4EEE-89B6-9B2D33CF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1FBB9-ADCA-4C2B-A291-CA078396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2DC73-AE11-443D-9962-28C8AE58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F4A-439B-40F1-95CE-83199892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BAFBD-7A69-41FE-A8CA-8FE1759C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561BD-B54A-4959-B2C5-DDCA7178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66294-7DB6-476B-80BD-1FEBF42A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299-7C94-43E7-8672-218DA33D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D88-FB30-41EF-844B-39D67B3C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3A57-7BCE-4688-B7D3-FB8FC6ED1DA0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023B-07C0-4A23-A7DC-89D97D6A0D41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37DD-1B50-4F0B-94D3-E5F4B08818D5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C64A-9010-4357-8210-3B61E3B759DB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D0BE-721A-4A87-A80A-A07F64245EA2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8597-F12A-4692-A9C7-461345559921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HE COMMODIFICATION OF THE ART OF THE FIL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64260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In dystopias, advertising techniques recognisable by a modern audience are used to brainwash the masses – see </a:t>
            </a:r>
            <a:r>
              <a:rPr b="0" i="1" lang="en-NZ" sz="3000" spc="-1" strike="noStrike">
                <a:solidFill>
                  <a:srgbClr val="ffffff"/>
                </a:solidFill>
                <a:latin typeface="Arial"/>
              </a:rPr>
              <a:t>1984 &amp; The Handmaid’s Ta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Dystopian heroes are usually rebels, often initially unwilling rebels, who are forced to try and deceive or defy the status quo in order to achieve something for the greater goo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3200400" cy="7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800" spc="-1" strike="noStrike">
              <a:solidFill>
                <a:srgbClr val="6ea0b0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Arial"/>
              </a:rPr>
              <a:t>In 1984 modern mass media – wall screens and films - are used for overtly propagandist purpo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Content Placeholder 4" descr="1984-movie-bb_a1.jpg"/>
          <p:cNvPicPr/>
          <p:nvPr/>
        </p:nvPicPr>
        <p:blipFill>
          <a:blip r:embed="rId1"/>
          <a:stretch/>
        </p:blipFill>
        <p:spPr>
          <a:xfrm>
            <a:off x="154080" y="1214280"/>
            <a:ext cx="89564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What is Genre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e know that genre is a type or category. We usually use it to refer to literature or a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Like all classification systems, genre is a construction of the human mind, a way of sorting things out according to what they are li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n film, genre has been consciously used by production companies for many years to create films that will sell to selected audiences. It is a way of ensuring as far as possible that the film will create the expected response in the aud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Why does it work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We like to think that we are unique individuals. If we were, then genre wouldn’t work, because there would be no way anyone could predict what our response to a film might b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Genre works by using conventions to manipulate our emotional responses to a fil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How it work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Film techniques are used to set up responses that are often almost unconscious. The fact that they work is attested by the shared emotional experience of an audience to a fil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Genres appeal to different hopes, fears, desires, dreams and preoccupations that we have and, to a certain extent, sha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Genres in </a:t>
            </a:r>
            <a:r>
              <a:rPr b="0" i="1" lang="en-NZ" sz="4600" spc="-1" strike="noStrike">
                <a:solidFill>
                  <a:srgbClr val="ffffff"/>
                </a:solidFill>
                <a:latin typeface="Franklin Gothic Book"/>
              </a:rPr>
              <a:t>Children of Me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oad Movies – these include films like </a:t>
            </a:r>
            <a:r>
              <a:rPr b="0" i="1" lang="en-NZ" sz="2400" spc="-1" strike="noStrike">
                <a:solidFill>
                  <a:srgbClr val="ffffff"/>
                </a:solidFill>
                <a:latin typeface="Arial"/>
              </a:rPr>
              <a:t>Thelma and Louise,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Arial"/>
              </a:rPr>
              <a:t>Easy Rider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NZ" sz="2400" spc="-1" strike="noStrike">
                <a:solidFill>
                  <a:srgbClr val="ffffff"/>
                </a:solidFill>
                <a:latin typeface="Arial"/>
              </a:rPr>
              <a:t>Goodbye Pork Pie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will involve a journey, usually to get away from someone, something etc. The journey will become more difficult and complicated as the story progr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elationships will change in the course of the journey – discoveries are made, people become closer or are driven apart, characters’ lives are transfo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s the end of the journey approaches, tension builds towards the film’s climactic mo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85480"/>
            <a:ext cx="3200400" cy="7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6ea0b0"/>
                </a:solidFill>
                <a:latin typeface="Franklin Gothic Book"/>
              </a:rPr>
              <a:t>THELMA AND LOUISE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ONFRONTATION AT THE ROAD HO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Content Placeholder 4" descr="Thelma_%26_Louise.jpg"/>
          <p:cNvPicPr/>
          <p:nvPr/>
        </p:nvPicPr>
        <p:blipFill>
          <a:blip r:embed="rId1"/>
          <a:stretch/>
        </p:blipFill>
        <p:spPr>
          <a:xfrm>
            <a:off x="3714840" y="-214200"/>
            <a:ext cx="528624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ffff"/>
                </a:solidFill>
                <a:latin typeface="Franklin Gothic Book"/>
              </a:rPr>
              <a:t>Science Fiction.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All science fiction is based on a theoretical possibility – a “what if” – that is capable of scientific explanation. Hence </a:t>
            </a:r>
            <a:r>
              <a:rPr b="0" i="1" lang="en-NZ" sz="2600" spc="-1" strike="noStrike">
                <a:solidFill>
                  <a:srgbClr val="ffffff"/>
                </a:solidFill>
                <a:latin typeface="Arial"/>
              </a:rPr>
              <a:t>Star Wars</a:t>
            </a: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 is science fiction, while </a:t>
            </a:r>
            <a:r>
              <a:rPr b="0" i="1" lang="en-NZ" sz="2600" spc="-1" strike="noStrike">
                <a:solidFill>
                  <a:srgbClr val="ffffff"/>
                </a:solidFill>
                <a:latin typeface="Arial"/>
              </a:rPr>
              <a:t>Harry Potter</a:t>
            </a: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 is fantas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In sci-fi, we expect to see characters exploring the possibilities and grappling with the consequences of future change. As a rule, we do not expect to see the world as we know it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85480"/>
            <a:ext cx="3200400" cy="7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ea0b0"/>
                </a:solidFill>
                <a:latin typeface="Franklin Gothic Book"/>
              </a:rPr>
              <a:t>BLADERUNNER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FUTURISTIC BUILDINGS – THE TYRELL CORPO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Content Placeholder 4" descr="Bladerunner_tyrellbuilding.jpg"/>
          <p:cNvPicPr/>
          <p:nvPr/>
        </p:nvPicPr>
        <p:blipFill>
          <a:blip r:embed="rId1"/>
          <a:stretch/>
        </p:blipFill>
        <p:spPr>
          <a:xfrm>
            <a:off x="146160" y="2071800"/>
            <a:ext cx="8997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57120" y="214200"/>
            <a:ext cx="392904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7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Future societies are usually portrayed as either recognisable variants of contemporary society (</a:t>
            </a:r>
            <a:r>
              <a:rPr b="0" i="1" lang="en-NZ" sz="3100" spc="-1" strike="noStrike">
                <a:solidFill>
                  <a:srgbClr val="ffffff"/>
                </a:solidFill>
                <a:latin typeface="Arial"/>
              </a:rPr>
              <a:t>Star Wars; I, Robot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) or as </a:t>
            </a:r>
            <a:r>
              <a:rPr b="0" lang="en-NZ" sz="3100" spc="-1" strike="noStrike" u="sng">
                <a:solidFill>
                  <a:srgbClr val="ffffff"/>
                </a:solidFill>
                <a:uFillTx/>
                <a:latin typeface="Arial"/>
              </a:rPr>
              <a:t>Dystopias.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 In the former, the social and political setting is relatively unimportant; in the latter, it is very important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7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6160" y="0"/>
            <a:ext cx="450072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Dystopias are political sci-fi, that play on nightmarish expectations of a future world characterised by harsh, devious, authoritarian and dictatorial governments; technology used to control, restrict and delude people; the heavy and obvious presence of security forces; and the absence of normal concepts of civil society – no civil rights; often basic human activities (such as childbirth and child-rearing) are interfered wit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01:49:06Z</dcterms:created>
  <dc:creator>Harold</dc:creator>
  <dc:description/>
  <dc:language>en-US</dc:language>
  <cp:lastModifiedBy>Ministry of Education</cp:lastModifiedBy>
  <dcterms:modified xsi:type="dcterms:W3CDTF">2008-07-27T09:42:18Z</dcterms:modified>
  <cp:revision>11</cp:revision>
  <dc:subject/>
  <dc:title>GENRE</dc:title>
</cp:coreProperties>
</file>