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33FA6-2D94-4B25-AA37-60CC948E75E5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B7E2A-B7A3-41DB-BCAB-538E8F0F25CF}" type="slidenum">
              <a:rPr b="0" lang="en-NZ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44B3-997C-46CF-AC32-C52F61744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24D5-5E73-4948-B8F1-E44B18688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F31B-16FD-460B-A8B6-17E40A408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0CD1-EAFE-4006-89ED-3A5ABC88D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DF728-0FE5-499C-9522-1CCB7A0C9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12939-907F-4DA5-B4DC-DB168DDE9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76A85-3480-4BB1-B25B-F7907EE83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4CE2A-6886-40F0-B80E-DB02EF5B9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60E76-3A02-4F57-919B-92249EB79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5AD16-E933-4AD5-A4CC-AA7E755B9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3D901-8F37-4DCE-BAD2-61B2CF1D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32E1-A22F-48DA-95CB-A20014589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7BEB8-2DB0-4B13-A7C2-8F4054AE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C7405-21AF-471F-B811-41FD61C7D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90E5B-ED19-4CA5-BA35-BE72FCB71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5B7A6-0A0B-40FB-8900-44D2DF0BC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15C1A-FFA2-4E07-BEFF-628997B87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921C5-0B25-46BC-A307-D1BA4CBCB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D9039-55FD-49D5-AFC6-E70A6D70D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765B9-25D0-498C-8B93-06A9E4647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F6A63-D73E-4E57-AAF6-B83179E02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ECA27-3F1E-49D6-A5C8-BC0C308EC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E502-201B-421B-A369-5A5A61CC9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1DA35-D598-4C30-BF8E-E6A386231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B7BC9-C7D6-41C3-BB15-EB862931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19324-0C73-4F34-B497-9D732C65B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C03B3-2B2B-449D-AD07-20494E864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80ED7-B3FE-45D5-813C-36BE3E690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39D57-E42A-41F5-9CD2-E39A95AFB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E08C3-4E6A-4AE3-AE80-CE2917D97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8163B-3783-458B-A887-A6AFCC5B6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E457F-21F7-4126-ACCB-F061526C9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76CFD-58B2-4C49-94F1-21D916F9F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02E8-9B7D-4389-88C4-E83DA1D33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3B288-A438-4EA0-B48B-5AC2FEF17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CFED3-873E-44E7-AB95-42842F154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3E252-EA20-41C2-8438-9B9F2CFF9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8C735-87FC-49AD-9B5B-C6D5D547B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9F482-46AE-4454-ABBD-FBB19361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CA460-67B1-49BA-BE8B-414BDF74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FEAC7-B562-4AED-B8EF-95485748E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33B80-FABD-4B96-8AFC-F59E44FDC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81CDF-94BA-4D62-B99A-BEB0D8A5A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A3B05-1D62-4F43-8F84-620A1BCBC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F6FF-924E-43BD-94C1-547A78E4E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EAF6FB-2A64-4C91-8DB3-C409EC52B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50A0C-033A-4A64-B068-6ECE0C64F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11B1C1-E622-45F1-9F87-C9921AEE8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F65934-D770-4D66-82BE-B07335E85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124A6F-257A-41C9-97CA-0B4D676BE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95D6D-CD65-4A0B-AB0F-7CD256E5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9BA85-36A1-4B02-BFDD-9375C49A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A58D06-D8E5-44C9-A391-703B6E8E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3E32D7-AEEE-4112-B862-3FA32C2A1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56DF9-962D-49AE-8E71-E5EC7EA47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2614-E897-418B-A00E-585B25384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84C1F-19D3-4A3C-B1DD-4A5FB6145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77689C-6622-4F6F-9324-5B6E073CE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A2F828-E605-4320-88F9-32FF32554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FB4748-D590-4190-B64B-ADC3CCCF7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699BA4-C1B8-40A1-9F9F-4AE391E18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25EFD-5A9D-4CB4-B28B-EF9C86A60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A9CA05-DD92-46C9-89C4-FA3A30C4E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F2D73A-5D26-4B2C-890F-3CE10B411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FA91A0-1D9C-4017-BEDA-986532103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23EA60-7CE7-4D7C-BE1C-151253B46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F0E9-4BE5-4232-A278-8E01A515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7216FD-E06C-4AB5-8159-FC243F116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A7E00C-B4D5-4782-BFB4-0F294BDB3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476FC9-1D2F-4494-8587-6367F1F0A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B972-0020-4349-83AC-E7B45EE2A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7761-DE2F-4D18-B568-DCB98461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9040B-976B-4CE7-ABB7-B647C5E07E57}" type="slidenum">
              <a:rPr b="0" lang="en-NZ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6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C063E-41DC-438A-96E2-DA28C98FB4A5}" type="slidenum">
              <a:rPr b="0" lang="en-NZ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8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15B66-7673-4850-B539-4CADD9E99E3D}" type="slidenum">
              <a:rPr b="0" lang="en-NZ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944F8-DF21-4105-810D-CC9F4DF698D0}" type="slidenum">
              <a:rPr b="0" lang="en-NZ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05933-2996-44D8-A8DE-6FF156F165E9}" type="slidenum">
              <a:rPr b="0" lang="en-NZ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E11B2-C9A4-437C-87C5-C6EB06B5B487}" type="slidenum">
              <a:rPr b="0" lang="en-NZ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Title 1" descr=""/>
          <p:cNvPicPr/>
          <p:nvPr/>
        </p:nvPicPr>
        <p:blipFill>
          <a:blip r:embed="rId1"/>
          <a:stretch/>
        </p:blipFill>
        <p:spPr>
          <a:xfrm>
            <a:off x="420840" y="3200400"/>
            <a:ext cx="6838920" cy="244476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33440" y="1544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THE COMMODIFICATION OF THE ART OF THE FIL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456840" y="64260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ffffff"/>
                </a:solidFill>
                <a:latin typeface="Arial"/>
              </a:rPr>
              <a:t>In dystopias, advertising techniques recognisable by a modern audience are used to brainwash the masses – see </a:t>
            </a:r>
            <a:r>
              <a:rPr b="0" i="1" lang="en-NZ" sz="3000" spc="-1" strike="noStrike">
                <a:solidFill>
                  <a:srgbClr val="ffffff"/>
                </a:solidFill>
                <a:latin typeface="Arial"/>
              </a:rPr>
              <a:t>1984 &amp; The Handmaid’s Tal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ffffff"/>
                </a:solidFill>
                <a:latin typeface="Arial"/>
              </a:rPr>
              <a:t>Dystopian heroes are usually rebels, often initially unwilling rebels, who are forced to try and deceive or defy the status quo in order to achieve something for the greater good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802800"/>
            <a:ext cx="3200400" cy="73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1800" spc="-1" strike="noStrike">
              <a:solidFill>
                <a:srgbClr val="6ea0b0"/>
              </a:solidFill>
              <a:latin typeface="Franklin Gothic 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214200"/>
            <a:ext cx="2743200" cy="914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ffffff"/>
                </a:solidFill>
                <a:latin typeface="Arial"/>
              </a:rPr>
              <a:t>In 1984 modern mass media – wall screens and films - are used for overtly propagandist purpo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Content Placeholder 4" descr="1984-movie-bb_a1.jpg"/>
          <p:cNvPicPr/>
          <p:nvPr/>
        </p:nvPicPr>
        <p:blipFill>
          <a:blip r:embed="rId1"/>
          <a:stretch/>
        </p:blipFill>
        <p:spPr>
          <a:xfrm>
            <a:off x="154080" y="1214280"/>
            <a:ext cx="895644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600" spc="-1" strike="noStrike">
                <a:solidFill>
                  <a:srgbClr val="ffffff"/>
                </a:solidFill>
                <a:latin typeface="Franklin Gothic Book"/>
              </a:rPr>
              <a:t>What is Genre?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14720" indent="-37872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We know that genre is a type or category. We usually use it to refer to literature or ar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Like all classification systems, genre is a construction of the human mind, a way of sorting things out according to what they are lik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26708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In film, genre has been consciously used by production companies for many years to create films that will sell to selected audiences. It is a way of ensuring as far as possible that the film will create the expected response in the audie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600" spc="-1" strike="noStrike">
                <a:solidFill>
                  <a:srgbClr val="ffffff"/>
                </a:solidFill>
                <a:latin typeface="Franklin Gothic Book"/>
              </a:rPr>
              <a:t>Why does it work?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ffffff"/>
                </a:solidFill>
                <a:latin typeface="Arial"/>
              </a:rPr>
              <a:t>We like to think that we are unique individuals. If we were, then genre wouldn’t work, because there would be no way anyone could predict what our response to a film might b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ffffff"/>
                </a:solidFill>
                <a:latin typeface="Arial"/>
              </a:rPr>
              <a:t>Genre works by using conventions to manipulate our emotional responses to a film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600" spc="-1" strike="noStrike">
                <a:solidFill>
                  <a:srgbClr val="ffffff"/>
                </a:solidFill>
                <a:latin typeface="Franklin Gothic Book"/>
              </a:rPr>
              <a:t>How it work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ffffff"/>
                </a:solidFill>
                <a:latin typeface="Arial"/>
              </a:rPr>
              <a:t>Film techniques are used to set up responses that are often almost unconscious. The fact that they work is attested by the shared emotional experience of an audience to a film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ffffff"/>
                </a:solidFill>
                <a:latin typeface="Arial"/>
              </a:rPr>
              <a:t>Genres appeal to different hopes, fears, desires, dreams and preoccupations that we have and, to a certain extent, shar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600" spc="-1" strike="noStrike">
                <a:solidFill>
                  <a:srgbClr val="ffffff"/>
                </a:solidFill>
                <a:latin typeface="Franklin Gothic Book"/>
              </a:rPr>
              <a:t>Genres in </a:t>
            </a:r>
            <a:r>
              <a:rPr b="0" i="1" lang="en-NZ" sz="4600" spc="-1" strike="noStrike">
                <a:solidFill>
                  <a:srgbClr val="ffffff"/>
                </a:solidFill>
                <a:latin typeface="Franklin Gothic Book"/>
              </a:rPr>
              <a:t>Children of Me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Road Movies – these include films like </a:t>
            </a:r>
            <a:r>
              <a:rPr b="0" i="1" lang="en-NZ" sz="2400" spc="-1" strike="noStrike">
                <a:solidFill>
                  <a:srgbClr val="ffffff"/>
                </a:solidFill>
                <a:latin typeface="Arial"/>
              </a:rPr>
              <a:t>Thelma and Louise,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NZ" sz="2400" spc="-1" strike="noStrike">
                <a:solidFill>
                  <a:srgbClr val="ffffff"/>
                </a:solidFill>
                <a:latin typeface="Arial"/>
              </a:rPr>
              <a:t>Easy Rider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NZ" sz="2400" spc="-1" strike="noStrike">
                <a:solidFill>
                  <a:srgbClr val="ffffff"/>
                </a:solidFill>
                <a:latin typeface="Arial"/>
              </a:rPr>
              <a:t>Goodbye Pork Pie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They will involve a journey, usually to get away from someone, something etc. The journey will become more difficult and complicated as the story progres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26708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Relationships will change in the course of the journey – discoveries are made, people become closer or are driven apart, characters’ lives are transform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As the end of the journey approaches, tension builds towards the film’s climactic mo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85480"/>
            <a:ext cx="3200400" cy="73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800" spc="-1" strike="noStrike">
                <a:solidFill>
                  <a:srgbClr val="6ea0b0"/>
                </a:solidFill>
                <a:latin typeface="Franklin Gothic Book"/>
              </a:rPr>
              <a:t>THELMA AND LOUISE</a:t>
            </a:r>
            <a:endParaRPr b="0" lang="en-US" sz="4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14200"/>
            <a:ext cx="2743200" cy="914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CONFRONTATION AT THE ROAD HO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Content Placeholder 4" descr="Thelma_%26_Louise.jpg"/>
          <p:cNvPicPr/>
          <p:nvPr/>
        </p:nvPicPr>
        <p:blipFill>
          <a:blip r:embed="rId1"/>
          <a:stretch/>
        </p:blipFill>
        <p:spPr>
          <a:xfrm>
            <a:off x="3714840" y="-214200"/>
            <a:ext cx="5286240" cy="66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600" spc="-1" strike="noStrike">
                <a:solidFill>
                  <a:srgbClr val="ffffff"/>
                </a:solidFill>
                <a:latin typeface="Franklin Gothic Book"/>
              </a:rPr>
              <a:t>Science Fiction.</a:t>
            </a:r>
            <a:br>
              <a:rPr sz="6600"/>
            </a:br>
            <a:endParaRPr b="0" lang="en-US" sz="6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ffffff"/>
                </a:solidFill>
                <a:latin typeface="Arial"/>
              </a:rPr>
              <a:t>All science fiction is based on a theoretical possibility – a “what if” – that is capable of scientific explanation. Hence </a:t>
            </a:r>
            <a:r>
              <a:rPr b="0" i="1" lang="en-NZ" sz="2600" spc="-1" strike="noStrike">
                <a:solidFill>
                  <a:srgbClr val="ffffff"/>
                </a:solidFill>
                <a:latin typeface="Arial"/>
              </a:rPr>
              <a:t>Star Wars</a:t>
            </a:r>
            <a:r>
              <a:rPr b="0" lang="en-NZ" sz="2600" spc="-1" strike="noStrike">
                <a:solidFill>
                  <a:srgbClr val="ffffff"/>
                </a:solidFill>
                <a:latin typeface="Arial"/>
              </a:rPr>
              <a:t> is science fiction, while </a:t>
            </a:r>
            <a:r>
              <a:rPr b="0" i="1" lang="en-NZ" sz="2600" spc="-1" strike="noStrike">
                <a:solidFill>
                  <a:srgbClr val="ffffff"/>
                </a:solidFill>
                <a:latin typeface="Arial"/>
              </a:rPr>
              <a:t>Harry Potter</a:t>
            </a:r>
            <a:r>
              <a:rPr b="0" lang="en-NZ" sz="2600" spc="-1" strike="noStrike">
                <a:solidFill>
                  <a:srgbClr val="ffffff"/>
                </a:solidFill>
                <a:latin typeface="Arial"/>
              </a:rPr>
              <a:t> is fantasy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26708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ffffff"/>
                </a:solidFill>
                <a:latin typeface="Arial"/>
              </a:rPr>
              <a:t>In sci-fi, we expect to see characters exploring the possibilities and grappling with the consequences of future change. As a rule, we do not expect to see the world as we know it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185480"/>
            <a:ext cx="3200400" cy="73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6ea0b0"/>
                </a:solidFill>
                <a:latin typeface="Franklin Gothic Book"/>
              </a:rPr>
              <a:t>BLADERUNNER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214200"/>
            <a:ext cx="2743200" cy="914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FUTURISTIC BUILDINGS – THE TYRELL CORPO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Content Placeholder 4" descr="Bladerunner_tyrellbuilding.jpg"/>
          <p:cNvPicPr/>
          <p:nvPr/>
        </p:nvPicPr>
        <p:blipFill>
          <a:blip r:embed="rId1"/>
          <a:stretch/>
        </p:blipFill>
        <p:spPr>
          <a:xfrm>
            <a:off x="146160" y="2071800"/>
            <a:ext cx="89978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357120" y="214200"/>
            <a:ext cx="392904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77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Future societies are usually portrayed as either recognisable variants of contemporary society (</a:t>
            </a:r>
            <a:r>
              <a:rPr b="0" i="1" lang="en-NZ" sz="3100" spc="-1" strike="noStrike">
                <a:solidFill>
                  <a:srgbClr val="ffffff"/>
                </a:solidFill>
                <a:latin typeface="Arial"/>
              </a:rPr>
              <a:t>Star Wars; I, Robot</a:t>
            </a: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) or as </a:t>
            </a:r>
            <a:r>
              <a:rPr b="0" lang="en-NZ" sz="3100" spc="-1" strike="noStrike" u="sng">
                <a:solidFill>
                  <a:srgbClr val="ffffff"/>
                </a:solidFill>
                <a:uFillTx/>
                <a:latin typeface="Arial"/>
              </a:rPr>
              <a:t>Dystopias.</a:t>
            </a: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 In the former, the social and political setting is relatively unimportant; in the latter, it is very important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7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286160" y="0"/>
            <a:ext cx="4500720" cy="59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14720" indent="-37872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Dystopias are political sci-fi, that play on nightmarish expectations of a future world characterised by harsh, devious, authoritarian and dictatorial governments; technology used to control, restrict and delude people; the heavy and obvious presence of security forces; and the absence of normal concepts of civil society – no civil rights; often basic human activities (such as childbirth and child-rearing) are interfered with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7T01:49:06Z</dcterms:created>
  <dc:creator>Harold</dc:creator>
  <dc:description/>
  <dc:language>en-US</dc:language>
  <cp:lastModifiedBy>Ministry of Education</cp:lastModifiedBy>
  <dcterms:modified xsi:type="dcterms:W3CDTF">2008-07-27T09:42:18Z</dcterms:modified>
  <cp:revision>11</cp:revision>
  <dc:subject/>
  <dc:title>GENRE</dc:title>
</cp:coreProperties>
</file>