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D8396-7D85-4842-BD0C-50526AC57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2BA3E-4C7C-4E53-B1E4-1B070E5AC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560D6-8974-4DCF-B19A-9D4DF406A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40AD1-26C6-4AB6-A958-6DAD4BDF7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A5D73-DD01-4BAC-8797-2621265EA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E03D6-4259-4301-A151-DB5338B01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C6A6A-6F51-4521-A383-B4A1C42F7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EFBEE-8F66-42A9-AE91-9D87E4655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4BCC0-1C56-4436-BD9D-7D1EEB1E1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8CFE3-39B8-4C62-BA35-0A219031A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EFF86-1BEF-4031-96A9-B049B2177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DEA8C-6CBB-474D-BA23-E44503296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A756-B7E1-4210-9C2D-AAD16BAB41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ovieweb.com/movies/film/33/2833/gal2259/17.php"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movieweb.com/movies/film/82/482/gal2099/06.php"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ovieweb.com/movies/film/82/482/gal2099/10.php"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ovieweb.com/movies/film/82/482/gal2099/54.php"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ovieweb.com/movies/film/43/1543/gal911/24.php"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movieweb.com/movies/film/14/1814/gal1157/14.php"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movieweb.com/movies/film/14/1814/gal1157/15.php"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movieweb.com/movies/film/94/894/gal2003/06.php"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ovieweb.com/movies/film/94/894/gal2003/10.php"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movieweb.com/movies/film/29/529/gal1619/16.php"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movieweb.com/movies/film/20/620/gal444/12.php"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movieweb.com/movies/film/20/620/gal444/11.php"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movieweb.com/movies/film/20/620/gal444/13.php"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movieweb.com/movies/film/31/1431/gal805/02.php"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movieweb.com/movies/film/31/1431/gal805/24.php"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movieweb.com/movies/film/31/1431/gal805/14.php"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movieweb.com/movies/film/31/1431/gal805/10.php"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vieweb.com/movies/film/43/1543/gal911/32.php"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movieweb.com/movies/film/43/1543/gal911/23.php"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movieweb.com/movies/film/43/1543/gal911/08.php"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 te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ok and lea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amples and definitions followed by a qui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5" name="Picture 5" descr="Jr_0175"/>
          <p:cNvPicPr/>
          <p:nvPr/>
        </p:nvPicPr>
        <p:blipFill>
          <a:blip r:embed="rId1"/>
          <a:stretch/>
        </p:blipFill>
        <p:spPr>
          <a:xfrm>
            <a:off x="324000" y="1268280"/>
            <a:ext cx="8424720" cy="518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re used to create the majesty of the scene – a sense of awe and amaz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grounding in OH sho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70" name="Picture 5" descr="jnts-0069"/>
          <p:cNvPicPr/>
          <p:nvPr/>
        </p:nvPicPr>
        <p:blipFill>
          <a:blip r:embed="rId1"/>
          <a:stretch/>
        </p:blipFill>
        <p:spPr>
          <a:xfrm>
            <a:off x="611280" y="1413000"/>
            <a:ext cx="8064360" cy="511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grounding in OH sho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egrounding is when something is placed closer to the camera than the rest of the picture – focuses attention on the object as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75" name="Picture 5" descr="07"/>
          <p:cNvPicPr/>
          <p:nvPr/>
        </p:nvPicPr>
        <p:blipFill>
          <a:blip r:embed="rId1"/>
          <a:stretch/>
        </p:blipFill>
        <p:spPr>
          <a:xfrm>
            <a:off x="611280" y="1125360"/>
            <a:ext cx="8064360" cy="532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ad or head and shoulders – often used to focus on a key character and his/her emotions and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n also be used to raise tensions or create sudden sense of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0" name="Picture 5" descr="11"/>
          <p:cNvPicPr/>
          <p:nvPr/>
        </p:nvPicPr>
        <p:blipFill>
          <a:blip r:embed="rId1"/>
          <a:stretch/>
        </p:blipFill>
        <p:spPr>
          <a:xfrm>
            <a:off x="2627280" y="189000"/>
            <a:ext cx="482436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houett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3" name="Picture 5" descr="3248"/>
          <p:cNvPicPr/>
          <p:nvPr/>
        </p:nvPicPr>
        <p:blipFill>
          <a:blip r:embed="rId1"/>
          <a:stretch/>
        </p:blipFill>
        <p:spPr>
          <a:xfrm>
            <a:off x="684360" y="1341360"/>
            <a:ext cx="79200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houett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gures seen in black outline against the light.  Can be romantic or fright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r and soft focu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8" name="Picture 7" descr="1"/>
          <p:cNvPicPr/>
          <p:nvPr/>
        </p:nvPicPr>
        <p:blipFill>
          <a:blip r:embed="rId1"/>
          <a:stretch/>
        </p:blipFill>
        <p:spPr>
          <a:xfrm>
            <a:off x="539640" y="1197000"/>
            <a:ext cx="7920000" cy="540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shot with fram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45" name="Picture 7" descr="09"/>
          <p:cNvPicPr/>
          <p:nvPr/>
        </p:nvPicPr>
        <p:blipFill>
          <a:blip r:embed="rId1"/>
          <a:stretch/>
        </p:blipFill>
        <p:spPr>
          <a:xfrm>
            <a:off x="539640" y="1125360"/>
            <a:ext cx="8064720" cy="532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r and soft focu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oft focus means out of focus – can be used to creat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epth of field </a:t>
            </a:r>
            <a:r>
              <a:rPr b="0" lang="en-NZ" sz="3200" spc="-1" strike="noStrike">
                <a:solidFill>
                  <a:srgbClr val="000000"/>
                </a:solidFill>
                <a:latin typeface="Arial"/>
              </a:rPr>
              <a:t>– means way the picture creates a sense of 3D in flat pi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ft focus can be romantic, indicate move to memory/dream or show losing conscious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ear/sharp focus means very definite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93" name="Picture 5" descr="Pirates of the Caribbean: Dead Man">
            <a:hlinkClick r:id="rId1"/>
          </p:cNvPr>
          <p:cNvPicPr/>
          <p:nvPr/>
        </p:nvPicPr>
        <p:blipFill>
          <a:blip r:embed="rId2"/>
          <a:stretch/>
        </p:blipFill>
        <p:spPr>
          <a:xfrm>
            <a:off x="611280" y="1197000"/>
            <a:ext cx="7632720" cy="482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ngle refers to the position of the camera.  The camera is low looking up at an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makes the object looked at appear dominating/frightening or danger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98" name="Picture 5" descr="Superman Returns - Movie Stills">
            <a:hlinkClick r:id="rId1"/>
          </p:cNvPr>
          <p:cNvPicPr/>
          <p:nvPr/>
        </p:nvPicPr>
        <p:blipFill>
          <a:blip r:embed="rId2"/>
          <a:stretch/>
        </p:blipFill>
        <p:spPr>
          <a:xfrm>
            <a:off x="684360" y="1268280"/>
            <a:ext cx="7632720" cy="511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amera is above the object looking down for a high angled sh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creates a sense of the subject looked at being in some danger or being vulner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eme close up</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03" name="Picture 5" descr="Superman Returns - Movie Stills">
            <a:hlinkClick r:id="rId1"/>
          </p:cNvPr>
          <p:cNvPicPr/>
          <p:nvPr/>
        </p:nvPicPr>
        <p:blipFill>
          <a:blip r:embed="rId2"/>
          <a:stretch/>
        </p:blipFill>
        <p:spPr>
          <a:xfrm>
            <a:off x="468360" y="1125360"/>
            <a:ext cx="7920000" cy="518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eme close up</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amera zooms in on a small object or very specific part of the body/ larger object being fil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focuses attention and may be used to point to a key object or may be used to create fear and t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ho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08" name="Picture 5" descr="Superman Returns - Movie Stills">
            <a:hlinkClick r:id="rId1"/>
          </p:cNvPr>
          <p:cNvPicPr/>
          <p:nvPr/>
        </p:nvPicPr>
        <p:blipFill>
          <a:blip r:embed="rId2"/>
          <a:stretch/>
        </p:blipFill>
        <p:spPr>
          <a:xfrm>
            <a:off x="539640" y="1268280"/>
            <a:ext cx="7561440" cy="475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ho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mera looks vertically down at the landscape – a dramatic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hot</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13" name="Picture 5" descr="Pearl Harbor - Movie Stills">
            <a:hlinkClick r:id="rId1"/>
          </p:cNvPr>
          <p:cNvPicPr/>
          <p:nvPr/>
        </p:nvPicPr>
        <p:blipFill>
          <a:blip r:embed="rId2"/>
          <a:stretch/>
        </p:blipFill>
        <p:spPr>
          <a:xfrm>
            <a:off x="468360" y="1341360"/>
            <a:ext cx="7991280" cy="504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ng shot and Fram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ng shot – this includes the whole figure and may include some background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aming – a figure is surrounded by some shape within the picture from the backg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hot</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shot that shows fast movement or events happ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18" name="Picture 5" descr="Independence Day - Movie Stills">
            <a:hlinkClick r:id="rId1"/>
          </p:cNvPr>
          <p:cNvPicPr/>
          <p:nvPr/>
        </p:nvPicPr>
        <p:blipFill>
          <a:blip r:embed="rId2"/>
          <a:stretch/>
        </p:blipFill>
        <p:spPr>
          <a:xfrm>
            <a:off x="468360" y="1268280"/>
            <a:ext cx="7991280" cy="4897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ho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1" name="Picture 5" descr="Independence Day - Movie Stills">
            <a:hlinkClick r:id="rId1"/>
          </p:cNvPr>
          <p:cNvPicPr/>
          <p:nvPr/>
        </p:nvPicPr>
        <p:blipFill>
          <a:blip r:embed="rId2"/>
          <a:stretch/>
        </p:blipFill>
        <p:spPr>
          <a:xfrm>
            <a:off x="468360" y="1628640"/>
            <a:ext cx="7848720" cy="460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4" name="Picture 5" descr="King Kong - Movie Stills">
            <a:hlinkClick r:id="rId1"/>
          </p:cNvPr>
          <p:cNvPicPr/>
          <p:nvPr/>
        </p:nvPicPr>
        <p:blipFill>
          <a:blip r:embed="rId2"/>
          <a:stretch/>
        </p:blipFill>
        <p:spPr>
          <a:xfrm>
            <a:off x="539640" y="1268280"/>
            <a:ext cx="7848720" cy="5256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7" name="Picture 5" descr="King Kong - Movie Stills">
            <a:hlinkClick r:id="rId1"/>
          </p:cNvPr>
          <p:cNvPicPr/>
          <p:nvPr/>
        </p:nvPicPr>
        <p:blipFill>
          <a:blip r:embed="rId2"/>
          <a:stretch/>
        </p:blipFill>
        <p:spPr>
          <a:xfrm>
            <a:off x="539640" y="1484280"/>
            <a:ext cx="8136000" cy="460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0" name="Picture 5" descr="The Day After Tomorrow - Movie Stills">
            <a:hlinkClick r:id="rId1"/>
          </p:cNvPr>
          <p:cNvPicPr/>
          <p:nvPr/>
        </p:nvPicPr>
        <p:blipFill>
          <a:blip r:embed="rId2"/>
          <a:stretch/>
        </p:blipFill>
        <p:spPr>
          <a:xfrm>
            <a:off x="468360" y="1197000"/>
            <a:ext cx="7704000" cy="5111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YOURSELF</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the following slides and identify the film technique(s) used and try to explain the reason this type of shot was used (i.e. the ‘effect’ of the camera angle, or position, and the shot compos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5" name="Picture 5" descr="Titanic - Movie Stills">
            <a:hlinkClick r:id="rId1"/>
          </p:cNvPr>
          <p:cNvPicPr/>
          <p:nvPr/>
        </p:nvPicPr>
        <p:blipFill>
          <a:blip r:embed="rId2"/>
          <a:stretch/>
        </p:blipFill>
        <p:spPr>
          <a:xfrm>
            <a:off x="539640" y="333360"/>
            <a:ext cx="7993080" cy="575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8" name="Picture 5" descr="Titanic - Movie Stills">
            <a:hlinkClick r:id="rId1"/>
          </p:cNvPr>
          <p:cNvPicPr/>
          <p:nvPr/>
        </p:nvPicPr>
        <p:blipFill>
          <a:blip r:embed="rId2"/>
          <a:stretch/>
        </p:blipFill>
        <p:spPr>
          <a:xfrm>
            <a:off x="611280" y="476280"/>
            <a:ext cx="7632720" cy="5473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1" name="Picture 5" descr="Titanic - Movie Stills">
            <a:hlinkClick r:id="rId1"/>
          </p:cNvPr>
          <p:cNvPicPr/>
          <p:nvPr/>
        </p:nvPicPr>
        <p:blipFill>
          <a:blip r:embed="rId2"/>
          <a:stretch/>
        </p:blipFill>
        <p:spPr>
          <a:xfrm>
            <a:off x="468360" y="260280"/>
            <a:ext cx="820728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50" name="Picture 5" descr="jnts-0002"/>
          <p:cNvPicPr/>
          <p:nvPr/>
        </p:nvPicPr>
        <p:blipFill>
          <a:blip r:embed="rId1"/>
          <a:stretch/>
        </p:blipFill>
        <p:spPr>
          <a:xfrm>
            <a:off x="468360" y="1125360"/>
            <a:ext cx="8280360" cy="554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4" name="Picture 7" descr="Godzilla - Movie Stills">
            <a:hlinkClick r:id="rId1"/>
          </p:cNvPr>
          <p:cNvPicPr/>
          <p:nvPr/>
        </p:nvPicPr>
        <p:blipFill>
          <a:blip r:embed="rId2"/>
          <a:stretch/>
        </p:blipFill>
        <p:spPr>
          <a:xfrm>
            <a:off x="1042920" y="0"/>
            <a:ext cx="5545080" cy="6669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7" name="Picture 5" descr="Godzilla - Movie Stills">
            <a:hlinkClick r:id="rId1"/>
          </p:cNvPr>
          <p:cNvPicPr/>
          <p:nvPr/>
        </p:nvPicPr>
        <p:blipFill>
          <a:blip r:embed="rId2"/>
          <a:stretch/>
        </p:blipFill>
        <p:spPr>
          <a:xfrm>
            <a:off x="826920" y="549360"/>
            <a:ext cx="7417080" cy="5327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0" name="Picture 5" descr="Godzilla - Movie Stills">
            <a:hlinkClick r:id="rId1"/>
          </p:cNvPr>
          <p:cNvPicPr/>
          <p:nvPr/>
        </p:nvPicPr>
        <p:blipFill>
          <a:blip r:embed="rId2"/>
          <a:stretch/>
        </p:blipFill>
        <p:spPr>
          <a:xfrm>
            <a:off x="611280" y="404640"/>
            <a:ext cx="7632720" cy="5977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3" name="Picture 7" descr="Godzilla - Movie Stills">
            <a:hlinkClick r:id="rId1"/>
          </p:cNvPr>
          <p:cNvPicPr/>
          <p:nvPr/>
        </p:nvPicPr>
        <p:blipFill>
          <a:blip r:embed="rId2"/>
          <a:stretch/>
        </p:blipFill>
        <p:spPr>
          <a:xfrm>
            <a:off x="755640" y="549360"/>
            <a:ext cx="7416720" cy="532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6" name="Picture 5" descr="Pearl Harbor - Movie Stills">
            <a:hlinkClick r:id="rId1"/>
          </p:cNvPr>
          <p:cNvPicPr/>
          <p:nvPr/>
        </p:nvPicPr>
        <p:blipFill>
          <a:blip r:embed="rId2"/>
          <a:stretch/>
        </p:blipFill>
        <p:spPr>
          <a:xfrm>
            <a:off x="611280" y="404640"/>
            <a:ext cx="7777080" cy="5616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8"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9" name="Picture 5" descr="Pearl Harbor - Movie Stills">
            <a:hlinkClick r:id="rId1"/>
          </p:cNvPr>
          <p:cNvPicPr/>
          <p:nvPr/>
        </p:nvPicPr>
        <p:blipFill>
          <a:blip r:embed="rId2"/>
          <a:stretch/>
        </p:blipFill>
        <p:spPr>
          <a:xfrm>
            <a:off x="900000" y="476280"/>
            <a:ext cx="7559640" cy="5473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62" name="Picture 5" descr="Pearl Harbor - Movie Stills">
            <a:hlinkClick r:id="rId1"/>
          </p:cNvPr>
          <p:cNvPicPr/>
          <p:nvPr/>
        </p:nvPicPr>
        <p:blipFill>
          <a:blip r:embed="rId2"/>
          <a:stretch/>
        </p:blipFill>
        <p:spPr>
          <a:xfrm>
            <a:off x="1476360" y="333360"/>
            <a:ext cx="6624720" cy="6191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just still shots – camera movements are also important</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se terms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Write the definitions opposite the term you think they apply to-</a:t>
            </a:r>
            <a:br>
              <a:rPr sz="3200"/>
            </a:br>
            <a:endParaRPr b="0"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in closer to an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alongside a moving object at the same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pulls back from an object to a wider sh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from right to left across a sce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upwards from base to top of ob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69" name="Picture 4" descr="Titanic - Movie Stills"/>
          <p:cNvPicPr/>
          <p:nvPr/>
        </p:nvPicPr>
        <p:blipFill>
          <a:blip r:embed="rId1"/>
          <a:stretch/>
        </p:blipFill>
        <p:spPr>
          <a:xfrm>
            <a:off x="539640" y="1125360"/>
            <a:ext cx="7993080" cy="496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is a wide shot that shows landscape detail and establishes where the story is 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2" name="Picture 4" descr="Titanic - Movie Stills"/>
          <p:cNvPicPr/>
          <p:nvPr/>
        </p:nvPicPr>
        <p:blipFill>
          <a:blip r:embed="rId1"/>
          <a:stretch/>
        </p:blipFill>
        <p:spPr>
          <a:xfrm>
            <a:off x="611280" y="1197000"/>
            <a:ext cx="7632720" cy="4753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5" name="Picture 4" descr="Titanic - Movie Stills"/>
          <p:cNvPicPr/>
          <p:nvPr/>
        </p:nvPicPr>
        <p:blipFill>
          <a:blip r:embed="rId1"/>
          <a:stretch/>
        </p:blipFill>
        <p:spPr>
          <a:xfrm>
            <a:off x="468360" y="1197000"/>
            <a:ext cx="8207280" cy="489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w angle /extreme close up</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8" name="Picture 4" descr="Godzilla - Movie Stills"/>
          <p:cNvPicPr/>
          <p:nvPr/>
        </p:nvPicPr>
        <p:blipFill>
          <a:blip r:embed="rId1"/>
          <a:stretch/>
        </p:blipFill>
        <p:spPr>
          <a:xfrm>
            <a:off x="1619280" y="1268280"/>
            <a:ext cx="4968720" cy="5589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igh angle</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1" name="Picture 4" descr="Godzilla - Movie Stills"/>
          <p:cNvPicPr/>
          <p:nvPr/>
        </p:nvPicPr>
        <p:blipFill>
          <a:blip r:embed="rId1"/>
          <a:stretch/>
        </p:blipFill>
        <p:spPr>
          <a:xfrm>
            <a:off x="826920" y="1125360"/>
            <a:ext cx="7417080" cy="4751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w angle establishing shot</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4" name="Picture 4" descr="Godzilla - Movie Stills"/>
          <p:cNvPicPr/>
          <p:nvPr/>
        </p:nvPicPr>
        <p:blipFill>
          <a:blip r:embed="rId1"/>
          <a:stretch/>
        </p:blipFill>
        <p:spPr>
          <a:xfrm>
            <a:off x="611280" y="1268280"/>
            <a:ext cx="7632720" cy="5256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id shot- two shot</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7" name="Picture 4" descr="Godzilla - Movie Stills"/>
          <p:cNvPicPr/>
          <p:nvPr/>
        </p:nvPicPr>
        <p:blipFill>
          <a:blip r:embed="rId1"/>
          <a:stretch/>
        </p:blipFill>
        <p:spPr>
          <a:xfrm>
            <a:off x="755640" y="1557360"/>
            <a:ext cx="7416720" cy="4896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0" name="Picture 4" descr="Pearl Harbor - Movie Stills"/>
          <p:cNvPicPr/>
          <p:nvPr/>
        </p:nvPicPr>
        <p:blipFill>
          <a:blip r:embed="rId1"/>
          <a:stretch/>
        </p:blipFill>
        <p:spPr>
          <a:xfrm>
            <a:off x="611280" y="1197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ction shot</a:t>
            </a:r>
            <a:endParaRPr b="0" lang="en-US" sz="4400" spc="-1" strike="noStrike">
              <a:solidFill>
                <a:srgbClr val="000000"/>
              </a:solidFill>
              <a:latin typeface="Arial"/>
            </a:endParaRPr>
          </a:p>
        </p:txBody>
      </p:sp>
      <p:sp>
        <p:nvSpPr>
          <p:cNvPr id="192"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3" name="Picture 4" descr="Pearl Harbor - Movie Stills"/>
          <p:cNvPicPr/>
          <p:nvPr/>
        </p:nvPicPr>
        <p:blipFill>
          <a:blip r:embed="rId1"/>
          <a:stretch/>
        </p:blipFill>
        <p:spPr>
          <a:xfrm>
            <a:off x="900000" y="1197000"/>
            <a:ext cx="7559640" cy="4968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lose up</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6" name="Picture 4" descr="Pearl Harbor - Movie Stills"/>
          <p:cNvPicPr/>
          <p:nvPr/>
        </p:nvPicPr>
        <p:blipFill>
          <a:blip r:embed="rId1"/>
          <a:stretch/>
        </p:blipFill>
        <p:spPr>
          <a:xfrm>
            <a:off x="1979640" y="1314360"/>
            <a:ext cx="6121440" cy="5543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198"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ning -Camera moves from right to left across a sce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 Camera moves alongside a moving object at the same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 Camera moves upwards from base to top of obje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in- Camera moves in closer to an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out- Camera pulls back from an object to a wider sho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hot- medium/mid sho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55" name="Picture 5" descr="39768"/>
          <p:cNvPicPr/>
          <p:nvPr/>
        </p:nvPicPr>
        <p:blipFill>
          <a:blip r:embed="rId1"/>
          <a:stretch/>
        </p:blipFill>
        <p:spPr>
          <a:xfrm>
            <a:off x="539640" y="1197000"/>
            <a:ext cx="806472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hot- medium/mid sho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shot shows two people in the frame – often used to indicate closeness between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id shot is a shot showing people from the middle of their bodies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ead sho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0" name="Picture 7" descr="S132_49"/>
          <p:cNvPicPr/>
          <p:nvPr/>
        </p:nvPicPr>
        <p:blipFill>
          <a:blip r:embed="rId1"/>
          <a:stretch/>
        </p:blipFill>
        <p:spPr>
          <a:xfrm>
            <a:off x="539640" y="1125360"/>
            <a:ext cx="8064720" cy="532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ead sho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is taken from above straight down on the action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d to give an unusual viewpoi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r may emphasise the helplessness of the people in sh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r the immense size of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05:28:52Z</dcterms:created>
  <dc:creator>Sally McCann</dc:creator>
  <dc:description/>
  <dc:language>en-US</dc:language>
  <cp:lastModifiedBy>smccann</cp:lastModifiedBy>
  <dcterms:modified xsi:type="dcterms:W3CDTF">2009-06-03T04:33:09Z</dcterms:modified>
  <cp:revision>6</cp:revision>
  <dc:subject/>
  <dc:title>Film terms</dc:title>
</cp:coreProperties>
</file>