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50D95-8A18-442D-91FE-EDE76BAA1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6A0AE-19D2-446F-BE9F-D5DBD63B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82F8B-8AFA-49A4-A341-88D651EFF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EA2B6-1F29-42D1-9F7C-5568BF3CE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976E7-571B-4835-944B-4F11014B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DC3C-6E95-46EC-A15D-B26F469EF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B086C-ED55-4439-9A17-C1A1AA4FA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8A7D-D22C-46DD-BF9C-7DD5AA4EE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BD98-8BE2-43A0-A6CF-2AE1EC112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1168-986F-4796-AED0-862082503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2353-331C-4C94-B095-19A83FF52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A2E2-6A13-4622-9D09-072CA587B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F5D8-8284-4DB4-830D-B8345639C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ovieweb.com/movies/film/33/2833/gal2259/17.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vieweb.com/movies/film/82/482/gal2099/06.php"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ovieweb.com/movies/film/82/482/gal2099/10.php"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vieweb.com/movies/film/82/482/gal2099/54.ph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vieweb.com/movies/film/43/1543/gal911/24.php"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vieweb.com/movies/film/14/1814/gal1157/14.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ovieweb.com/movies/film/14/1814/gal1157/15.php"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ovieweb.com/movies/film/94/894/gal2003/06.php"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ovieweb.com/movies/film/94/894/gal2003/10.php"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ovieweb.com/movies/film/29/529/gal1619/16.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ovieweb.com/movies/film/20/620/gal444/12.php"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movieweb.com/movies/film/20/620/gal444/11.php"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movieweb.com/movies/film/20/620/gal444/13.php"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ovieweb.com/movies/film/31/1431/gal805/02.php"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movieweb.com/movies/film/31/1431/gal805/24.php"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movieweb.com/movies/film/31/1431/gal805/14.php"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movieweb.com/movies/film/31/1431/gal805/10.php"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vieweb.com/movies/film/43/1543/gal911/32.php"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ovieweb.com/movies/film/43/1543/gal911/23.php"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ovieweb.com/movies/film/43/1543/gal911/08.php"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te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nd lea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amples and definitions followed by a qu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5" name="Picture 5" descr="Jr_0175"/>
          <p:cNvPicPr/>
          <p:nvPr/>
        </p:nvPicPr>
        <p:blipFill>
          <a:blip r:embed="rId1"/>
          <a:stretch/>
        </p:blipFill>
        <p:spPr>
          <a:xfrm>
            <a:off x="32400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re used to create the majesty of the scene – a sense of awe and amaz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0" name="Picture 5" descr="jnts-0069"/>
          <p:cNvPicPr/>
          <p:nvPr/>
        </p:nvPicPr>
        <p:blipFill>
          <a:blip r:embed="rId1"/>
          <a:stretch/>
        </p:blipFill>
        <p:spPr>
          <a:xfrm>
            <a:off x="611280" y="1413000"/>
            <a:ext cx="806436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egrounding is when something is placed closer to the camera than the rest of the picture – focuses attention on the object a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5" name="Picture 5" descr="07"/>
          <p:cNvPicPr/>
          <p:nvPr/>
        </p:nvPicPr>
        <p:blipFill>
          <a:blip r:embed="rId1"/>
          <a:stretch/>
        </p:blipFill>
        <p:spPr>
          <a:xfrm>
            <a:off x="611280" y="1125360"/>
            <a:ext cx="8064360" cy="532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d or head and shoulders – often used to focus on a key character and his/her emotions and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also be used to raise tensions or create sudden sense of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0" name="Picture 5" descr="11"/>
          <p:cNvPicPr/>
          <p:nvPr/>
        </p:nvPicPr>
        <p:blipFill>
          <a:blip r:embed="rId1"/>
          <a:stretch/>
        </p:blipFill>
        <p:spPr>
          <a:xfrm>
            <a:off x="2627280" y="189000"/>
            <a:ext cx="482436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3" name="Picture 5" descr="3248"/>
          <p:cNvPicPr/>
          <p:nvPr/>
        </p:nvPicPr>
        <p:blipFill>
          <a:blip r:embed="rId1"/>
          <a:stretch/>
        </p:blipFill>
        <p:spPr>
          <a:xfrm>
            <a:off x="684360" y="1341360"/>
            <a:ext cx="79200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gures seen in black outline against the light.  Can be romantic or fright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8" name="Picture 7" descr="1"/>
          <p:cNvPicPr/>
          <p:nvPr/>
        </p:nvPicPr>
        <p:blipFill>
          <a:blip r:embed="rId1"/>
          <a:stretch/>
        </p:blipFill>
        <p:spPr>
          <a:xfrm>
            <a:off x="539640" y="1197000"/>
            <a:ext cx="792000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shot with fram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45" name="Picture 7" descr="0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ft focus means out of focus – can be used to crea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pth of field </a:t>
            </a:r>
            <a:r>
              <a:rPr b="0" lang="en-NZ" sz="3200" spc="-1" strike="noStrike">
                <a:solidFill>
                  <a:srgbClr val="000000"/>
                </a:solidFill>
                <a:latin typeface="Arial"/>
              </a:rPr>
              <a:t>– means way the picture creates a sense of 3D in flat pi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ft focus can be romantic, indicate move to memory/dream or show losing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ar/sharp focus means very defini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3" name="Picture 5" descr="Pirates of the Caribbean: Dead Man">
            <a:hlinkClick r:id="rId1"/>
          </p:cNvPr>
          <p:cNvPicPr/>
          <p:nvPr/>
        </p:nvPicPr>
        <p:blipFill>
          <a:blip r:embed="rId2"/>
          <a:stretch/>
        </p:blipFill>
        <p:spPr>
          <a:xfrm>
            <a:off x="611280" y="119700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ngle refers to the position of the camera.  The camera is low looking up at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akes the object looked at appear dominating/frightening or dang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8" name="Picture 5" descr="Superman Returns - Movie Stills">
            <a:hlinkClick r:id="rId1"/>
          </p:cNvPr>
          <p:cNvPicPr/>
          <p:nvPr/>
        </p:nvPicPr>
        <p:blipFill>
          <a:blip r:embed="rId2"/>
          <a:stretch/>
        </p:blipFill>
        <p:spPr>
          <a:xfrm>
            <a:off x="684360" y="126828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is above the object looking down for a high angled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creates a sense of the subject looked at being in some danger or being vuln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3" name="Picture 5" descr="Superman Returns - Movie Stills">
            <a:hlinkClick r:id="rId1"/>
          </p:cNvPr>
          <p:cNvPicPr/>
          <p:nvPr/>
        </p:nvPicPr>
        <p:blipFill>
          <a:blip r:embed="rId2"/>
          <a:stretch/>
        </p:blipFill>
        <p:spPr>
          <a:xfrm>
            <a:off x="468360" y="1125360"/>
            <a:ext cx="7920000" cy="518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zooms in on a small object or very specific part of the body/ larger object being fil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focuses attention and may be used to point to a key object or may be used to create fear and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8" name="Picture 5" descr="Superman Returns - Movie Stills">
            <a:hlinkClick r:id="rId1"/>
          </p:cNvPr>
          <p:cNvPicPr/>
          <p:nvPr/>
        </p:nvPicPr>
        <p:blipFill>
          <a:blip r:embed="rId2"/>
          <a:stretch/>
        </p:blipFill>
        <p:spPr>
          <a:xfrm>
            <a:off x="539640" y="1268280"/>
            <a:ext cx="7561440" cy="47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mera looks vertically down at the landscape – a dramatic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3" name="Picture 5" descr="Pearl Harbor - Movie Stills">
            <a:hlinkClick r:id="rId1"/>
          </p:cNvPr>
          <p:cNvPicPr/>
          <p:nvPr/>
        </p:nvPicPr>
        <p:blipFill>
          <a:blip r:embed="rId2"/>
          <a:stretch/>
        </p:blipFill>
        <p:spPr>
          <a:xfrm>
            <a:off x="468360" y="1341360"/>
            <a:ext cx="79912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ng shot and Fra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ng shot – this includes the whole figure and may include some background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aming – a figure is surrounded by some shape within the picture from the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hot that shows fast movement or event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8" name="Picture 5" descr="Independence Day - Movie Stills">
            <a:hlinkClick r:id="rId1"/>
          </p:cNvPr>
          <p:cNvPicPr/>
          <p:nvPr/>
        </p:nvPicPr>
        <p:blipFill>
          <a:blip r:embed="rId2"/>
          <a:stretch/>
        </p:blipFill>
        <p:spPr>
          <a:xfrm>
            <a:off x="468360" y="1268280"/>
            <a:ext cx="7991280" cy="489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ho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1" name="Picture 5" descr="Independence Day - Movie Stills">
            <a:hlinkClick r:id="rId1"/>
          </p:cNvPr>
          <p:cNvPicPr/>
          <p:nvPr/>
        </p:nvPicPr>
        <p:blipFill>
          <a:blip r:embed="rId2"/>
          <a:stretch/>
        </p:blipFill>
        <p:spPr>
          <a:xfrm>
            <a:off x="468360" y="1628640"/>
            <a:ext cx="7848720" cy="460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4" name="Picture 5" descr="King Kong - Movie Stills">
            <a:hlinkClick r:id="rId1"/>
          </p:cNvPr>
          <p:cNvPicPr/>
          <p:nvPr/>
        </p:nvPicPr>
        <p:blipFill>
          <a:blip r:embed="rId2"/>
          <a:stretch/>
        </p:blipFill>
        <p:spPr>
          <a:xfrm>
            <a:off x="539640" y="126828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7" name="Picture 5" descr="King Kong - Movie Stills">
            <a:hlinkClick r:id="rId1"/>
          </p:cNvPr>
          <p:cNvPicPr/>
          <p:nvPr/>
        </p:nvPicPr>
        <p:blipFill>
          <a:blip r:embed="rId2"/>
          <a:stretch/>
        </p:blipFill>
        <p:spPr>
          <a:xfrm>
            <a:off x="539640" y="1484280"/>
            <a:ext cx="8136000" cy="46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0" name="Picture 5" descr="The Day After Tomorrow - Movie Stills">
            <a:hlinkClick r:id="rId1"/>
          </p:cNvPr>
          <p:cNvPicPr/>
          <p:nvPr/>
        </p:nvPicPr>
        <p:blipFill>
          <a:blip r:embed="rId2"/>
          <a:stretch/>
        </p:blipFill>
        <p:spPr>
          <a:xfrm>
            <a:off x="468360" y="119700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SELF</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following slides and identify the film technique(s) used and try to explain the reason this type of shot was used (i.e. the ‘effect’ of the camera angle, or position, and the shot compos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5" name="Picture 5" descr="Titanic - Movie Stills">
            <a:hlinkClick r:id="rId1"/>
          </p:cNvPr>
          <p:cNvPicPr/>
          <p:nvPr/>
        </p:nvPicPr>
        <p:blipFill>
          <a:blip r:embed="rId2"/>
          <a:stretch/>
        </p:blipFill>
        <p:spPr>
          <a:xfrm>
            <a:off x="539640" y="333360"/>
            <a:ext cx="7993080" cy="575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8" name="Picture 5" descr="Titanic - Movie Stills">
            <a:hlinkClick r:id="rId1"/>
          </p:cNvPr>
          <p:cNvPicPr/>
          <p:nvPr/>
        </p:nvPicPr>
        <p:blipFill>
          <a:blip r:embed="rId2"/>
          <a:stretch/>
        </p:blipFill>
        <p:spPr>
          <a:xfrm>
            <a:off x="611280" y="476280"/>
            <a:ext cx="7632720" cy="547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1" name="Picture 5" descr="Titanic - Movie Stills">
            <a:hlinkClick r:id="rId1"/>
          </p:cNvPr>
          <p:cNvPicPr/>
          <p:nvPr/>
        </p:nvPicPr>
        <p:blipFill>
          <a:blip r:embed="rId2"/>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5" descr="jnts-0002"/>
          <p:cNvPicPr/>
          <p:nvPr/>
        </p:nvPicPr>
        <p:blipFill>
          <a:blip r:embed="rId1"/>
          <a:stretch/>
        </p:blipFill>
        <p:spPr>
          <a:xfrm>
            <a:off x="468360" y="112536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4" name="Picture 7" descr="Godzilla - Movie Stills">
            <a:hlinkClick r:id="rId1"/>
          </p:cNvPr>
          <p:cNvPicPr/>
          <p:nvPr/>
        </p:nvPicPr>
        <p:blipFill>
          <a:blip r:embed="rId2"/>
          <a:stretch/>
        </p:blipFill>
        <p:spPr>
          <a:xfrm>
            <a:off x="1042920" y="0"/>
            <a:ext cx="5545080" cy="666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7" name="Picture 5" descr="Godzilla - Movie Stills">
            <a:hlinkClick r:id="rId1"/>
          </p:cNvPr>
          <p:cNvPicPr/>
          <p:nvPr/>
        </p:nvPicPr>
        <p:blipFill>
          <a:blip r:embed="rId2"/>
          <a:stretch/>
        </p:blipFill>
        <p:spPr>
          <a:xfrm>
            <a:off x="826920" y="549360"/>
            <a:ext cx="7417080" cy="5327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0" name="Picture 5" descr="Godzilla - Movie Stills">
            <a:hlinkClick r:id="rId1"/>
          </p:cNvPr>
          <p:cNvPicPr/>
          <p:nvPr/>
        </p:nvPicPr>
        <p:blipFill>
          <a:blip r:embed="rId2"/>
          <a:stretch/>
        </p:blipFill>
        <p:spPr>
          <a:xfrm>
            <a:off x="611280" y="404640"/>
            <a:ext cx="7632720" cy="597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3" name="Picture 7" descr="Godzilla - Movie Stills">
            <a:hlinkClick r:id="rId1"/>
          </p:cNvPr>
          <p:cNvPicPr/>
          <p:nvPr/>
        </p:nvPicPr>
        <p:blipFill>
          <a:blip r:embed="rId2"/>
          <a:stretch/>
        </p:blipFill>
        <p:spPr>
          <a:xfrm>
            <a:off x="755640" y="549360"/>
            <a:ext cx="7416720" cy="53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6" name="Picture 5" descr="Pearl Harbor - Movie Stills">
            <a:hlinkClick r:id="rId1"/>
          </p:cNvPr>
          <p:cNvPicPr/>
          <p:nvPr/>
        </p:nvPicPr>
        <p:blipFill>
          <a:blip r:embed="rId2"/>
          <a:stretch/>
        </p:blipFill>
        <p:spPr>
          <a:xfrm>
            <a:off x="611280" y="404640"/>
            <a:ext cx="7777080" cy="561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8"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9" name="Picture 5" descr="Pearl Harbor - Movie Stills">
            <a:hlinkClick r:id="rId1"/>
          </p:cNvPr>
          <p:cNvPicPr/>
          <p:nvPr/>
        </p:nvPicPr>
        <p:blipFill>
          <a:blip r:embed="rId2"/>
          <a:stretch/>
        </p:blipFill>
        <p:spPr>
          <a:xfrm>
            <a:off x="900000" y="476280"/>
            <a:ext cx="7559640" cy="547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2" name="Picture 5" descr="Pearl Harbor - Movie Stills">
            <a:hlinkClick r:id="rId1"/>
          </p:cNvPr>
          <p:cNvPicPr/>
          <p:nvPr/>
        </p:nvPicPr>
        <p:blipFill>
          <a:blip r:embed="rId2"/>
          <a:stretch/>
        </p:blipFill>
        <p:spPr>
          <a:xfrm>
            <a:off x="1476360" y="333360"/>
            <a:ext cx="6624720" cy="619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just still shots – camera movements are also importan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se term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Write the definitions opposite the term you think they apply to-</a:t>
            </a:r>
            <a:br>
              <a:rPr sz="3200"/>
            </a:b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pulls back from an object to a wider sh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upwards from base to top of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9" name="Picture 4" descr="Titanic - Movie Stills"/>
          <p:cNvPicPr/>
          <p:nvPr/>
        </p:nvPicPr>
        <p:blipFill>
          <a:blip r:embed="rId1"/>
          <a:stretch/>
        </p:blipFill>
        <p:spPr>
          <a:xfrm>
            <a:off x="539640" y="1125360"/>
            <a:ext cx="7993080" cy="49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a wide shot that shows landscape detail and establishes where the story is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2" name="Picture 4" descr="Titanic - Movie Stills"/>
          <p:cNvPicPr/>
          <p:nvPr/>
        </p:nvPicPr>
        <p:blipFill>
          <a:blip r:embed="rId1"/>
          <a:stretch/>
        </p:blipFill>
        <p:spPr>
          <a:xfrm>
            <a:off x="611280" y="119700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5" name="Picture 4" descr="Titanic - Movie Stills"/>
          <p:cNvPicPr/>
          <p:nvPr/>
        </p:nvPicPr>
        <p:blipFill>
          <a:blip r:embed="rId1"/>
          <a:stretch/>
        </p:blipFill>
        <p:spPr>
          <a:xfrm>
            <a:off x="468360" y="119700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xtreme close up</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8" name="Picture 4" descr="Godzilla - Movie Stills"/>
          <p:cNvPicPr/>
          <p:nvPr/>
        </p:nvPicPr>
        <p:blipFill>
          <a:blip r:embed="rId1"/>
          <a:stretch/>
        </p:blipFill>
        <p:spPr>
          <a:xfrm>
            <a:off x="1619280" y="1268280"/>
            <a:ext cx="4968720" cy="5589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igh angle</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1" name="Picture 4" descr="Godzilla - Movie Stills"/>
          <p:cNvPicPr/>
          <p:nvPr/>
        </p:nvPicPr>
        <p:blipFill>
          <a:blip r:embed="rId1"/>
          <a:stretch/>
        </p:blipFill>
        <p:spPr>
          <a:xfrm>
            <a:off x="826920" y="1125360"/>
            <a:ext cx="7417080" cy="475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stablishing sho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4" descr="Godzilla - Movie Stills"/>
          <p:cNvPicPr/>
          <p:nvPr/>
        </p:nvPicPr>
        <p:blipFill>
          <a:blip r:embed="rId1"/>
          <a:stretch/>
        </p:blipFill>
        <p:spPr>
          <a:xfrm>
            <a:off x="611280" y="1268280"/>
            <a:ext cx="7632720" cy="525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id shot- two sho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7" name="Picture 4" descr="Godzilla - Movie Stills"/>
          <p:cNvPicPr/>
          <p:nvPr/>
        </p:nvPicPr>
        <p:blipFill>
          <a:blip r:embed="rId1"/>
          <a:stretch/>
        </p:blipFill>
        <p:spPr>
          <a:xfrm>
            <a:off x="755640" y="1557360"/>
            <a:ext cx="7416720" cy="48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0" name="Picture 4" descr="Pearl Harbor - Movie Stills"/>
          <p:cNvPicPr/>
          <p:nvPr/>
        </p:nvPicPr>
        <p:blipFill>
          <a:blip r:embed="rId1"/>
          <a:stretch/>
        </p:blipFill>
        <p:spPr>
          <a:xfrm>
            <a:off x="611280" y="1197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tion shot</a:t>
            </a:r>
            <a:endParaRPr b="0" lang="en-US" sz="4400" spc="-1" strike="noStrike">
              <a:solidFill>
                <a:srgbClr val="000000"/>
              </a:solidFill>
              <a:latin typeface="Arial"/>
            </a:endParaRPr>
          </a:p>
        </p:txBody>
      </p:sp>
      <p:sp>
        <p:nvSpPr>
          <p:cNvPr id="192"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3" name="Picture 4" descr="Pearl Harbor - Movie Stills"/>
          <p:cNvPicPr/>
          <p:nvPr/>
        </p:nvPicPr>
        <p:blipFill>
          <a:blip r:embed="rId1"/>
          <a:stretch/>
        </p:blipFill>
        <p:spPr>
          <a:xfrm>
            <a:off x="900000" y="1197000"/>
            <a:ext cx="755964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ose up</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6" name="Picture 4" descr="Pearl Harbor - Movie Stills"/>
          <p:cNvPicPr/>
          <p:nvPr/>
        </p:nvPicPr>
        <p:blipFill>
          <a:blip r:embed="rId1"/>
          <a:stretch/>
        </p:blipFill>
        <p:spPr>
          <a:xfrm>
            <a:off x="1979640" y="1314360"/>
            <a:ext cx="6121440" cy="55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 -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Camera moves upwards from base to top of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 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 Camera pulls back from an object to a wider sho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5" name="Picture 5" descr="39768"/>
          <p:cNvPicPr/>
          <p:nvPr/>
        </p:nvPicPr>
        <p:blipFill>
          <a:blip r:embed="rId1"/>
          <a:stretch/>
        </p:blipFill>
        <p:spPr>
          <a:xfrm>
            <a:off x="539640" y="1197000"/>
            <a:ext cx="8064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shot shows two people in the frame – often used to indicate closeness between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d shot is a shot showing people from the middle of their bodi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7" descr="S132_4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taken from above straight down on the actio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d to give an unusual view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may emphasise the helplessness of the people in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the immense size of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28:52Z</dcterms:created>
  <dc:creator>Sally McCann</dc:creator>
  <dc:description/>
  <dc:language>en-US</dc:language>
  <cp:lastModifiedBy>smccann</cp:lastModifiedBy>
  <dcterms:modified xsi:type="dcterms:W3CDTF">2009-06-03T04:33:09Z</dcterms:modified>
  <cp:revision>6</cp:revision>
  <dc:subject/>
  <dc:title>Film terms</dc:title>
</cp:coreProperties>
</file>