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7.jpeg" ContentType="image/jpeg"/>
  <Override PartName="/ppt/media/image28.png" ContentType="image/pn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09CB-3A81-49EE-8E31-945578284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B380-B213-47B2-9694-C78139A45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697CA-8366-440F-9CBA-FE424E29D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AE25D-CD9B-499A-8C5F-EDE5DAF14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0411E-C02D-4545-99B2-EAF5A9876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F5E07-A592-4EB0-86F3-E3F8440DD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C02D3-623F-4BA3-B39F-A2148A34C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C1857-D8DF-4B0C-8292-594395794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F001A-D7B1-4694-8093-CC98E5CC4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56BD4-C358-4C11-8881-A710DDB76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0537B-231F-4EA0-951E-375E3F1EC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15D63-F885-4D5B-A74E-F6481CA2D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EFE2E-B1DA-404A-AEBB-0E3E59A37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8BEE3-50C8-4AAD-9C9C-9C0760CFA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76D8A-5F27-445D-9FF9-A481420D6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60826-19E4-473E-BA45-40617E3A7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33346-16BE-43B5-AED3-8A0EC7205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DD791-89A6-44D0-BDEB-BAB0D8587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0519E-4B00-47E4-9FC5-F23083A8B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A452744-7F1D-453C-9815-B8A183C41E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FC56132-293D-471D-9D97-1554BD3693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A401F7F-1269-4C23-ACEC-7D1E86E599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3AE918-5553-4092-91D9-2E8FE85F6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BD408A0-D358-448F-B5AA-C35F2493F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E6D6F-0F85-4BAA-B208-988C155B4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641DC65-A1A9-484C-8FF1-9D1A56F71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D1AAF3-AA5F-4FBC-BAA9-412E8D23E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7C8080-6BC7-4C44-847A-FAC153D95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FF07DA-DE6B-4BCE-87CD-C27E6B4FD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8DA523-3D1B-47F6-9873-8C2FAF1170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2E39942-49B6-493E-9DE6-78970D7596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7F3D458-184C-4651-854F-1CA96AE728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CA20B6C-78DB-4539-A707-5CEE786A7C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5379E3A-8A41-464D-B330-FEB088A41F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CECDAA8-11C1-4F1B-9DEE-B8D97D427A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9760E-E802-42D6-B7A1-BD9B287FB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9F49F0-1E31-48DB-A445-E7592CD62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9DBE8C-CF7E-473C-898C-071CB7D6D6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00EFA74-AF2F-47DE-BE17-365331894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E51464-217B-4A25-9592-9091221DF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B5D607-7770-4AAF-BFF9-9FC1F5857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88DA88-C5E1-4CAE-B112-D7C9F839AC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A2A40B-F438-4E6D-8593-AFE97D673C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998B6D3-7AEB-4972-96B6-0A129C1191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E590D87-C8EA-40E0-B308-142672340C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1568992-73B6-45BB-88DC-B5FA544538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F33AC-2BBB-4B29-B161-30EAA3096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84190A7-7992-42DC-99B8-090432382C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63ABDA-4249-4146-AB2B-21F6C3AAF6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7DF3C1-AE6C-485B-939C-C1268213B7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2AEF9C-48DD-4821-B2FB-B814EC1CED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70C325-3C26-4E19-A9EA-CE9E20F279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2663B4-670C-4E92-89F5-25F481E0E8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5E4AA8-F787-439B-97E0-A829ACD503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DEB74C-BCEC-4F4C-B50B-87FF4FC35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EF64B84-BD78-4F3D-9560-42677EA97F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5BBB751-A668-4A26-88C0-D87246B8CA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32C99-7C81-49B6-A420-6D02B0DE9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FEE3247-BA93-4E97-9EF5-BDB9005EED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E354F0-3BB2-4668-A400-54B3D5970F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5AA8B5-130F-492D-9CCD-A7DF7F8AB0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8B9C4C-28D7-40BF-9892-77122589D7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A7ACCD-4FAA-4AE6-9D9A-51D836AEF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1C9D5C-9011-4892-8910-002F94747D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537082-59F5-4514-B5D5-D4A1E34B3E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F7CF82-9B1D-4169-B5E7-83669B38C3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573D8A-CAB9-429F-A4D5-025EDF389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38613-8A8E-4D7E-98E0-8D6BA8DFEC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858E-8B55-4C3A-B079-005AF8401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1CD1E3-D896-432E-8AF0-DB39C18B80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E5EED3-B260-4A25-9AF7-5906F9D1E3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15A515-CF97-47FE-BB73-8B76E63C54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5C2A8A8-5CDE-41BF-9823-6E8B3D18CB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6D5F29D-1820-4EEC-A977-EFAAD54DAA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A503230-CED0-48C6-A7E9-79C9B22558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CFB1971-B347-4DB4-BDB5-9AFFACDCC0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7BBE21C-7FE9-4C80-BB01-8293CAD643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830C64C-D5A5-4BFE-ADDE-1CDC0608D9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3AC69AA-6875-499D-AEB4-BC4C7DA403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C65C0-380F-41E1-AE1A-33952CF84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A4558ED-130F-4C67-B57F-B9DC9A4AF5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6D74E14-E23B-499C-A035-6AEAC282F5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6D5FB98-D81A-4D9A-AF82-00BB65B98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214D1B9-A968-484E-AC6D-32B9D1791D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58447E6-45A4-4C91-A5DC-38D1CB1610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09492B-2FF0-4378-9854-87DD5257B5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94653A-110B-48ED-9CD7-B662792192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207F47-A25D-48B6-89E4-2417087C83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39B7A0-CB97-4C24-B8B7-322D66E0E8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720B45-2EBB-443F-B59E-556B2320E8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5E2FF-1F33-4D36-9E64-EE5543770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F3A4E4-08F9-4F59-99FA-C95FA6B43E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42126C-2544-407B-86D9-8E1C1E32FC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34E44-5FC3-44FF-BA82-F918A71794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B086B1-C018-41C4-8624-FE308CB993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4338B9-72DF-42B6-BE74-7B0B70A9A3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F0B273-A985-42FC-ABB2-2CC586C994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9FA879-6C4D-4766-A4C1-4804C23E0F5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50B2-6D5D-4F47-B25E-C76CCF12E0FD}"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57F0-AE79-48AF-A4F8-E75C6ECCEF99}" type="slidenum">
              <a:rPr b="1" lang="en-US"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7AD3-6DBA-4B0D-86D3-4D3C7F2154AE}" type="slidenum">
              <a:rPr b="1" lang="en-US" sz="2400" spc="-1" strike="noStrike">
                <a:solidFill>
                  <a:srgbClr val="ffffff"/>
                </a:solidFill>
                <a:latin typeface="Tw Cen MT"/>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91DA-7750-4E50-8C3B-7E66126C81E4}"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6366-B5D7-467B-89F7-589C3EFB56E5}"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3127-D3DD-40EB-B16F-2DD6B6E33B2E}" type="slidenum">
              <a:rPr b="1" lang="en-US" sz="1400" spc="-1" strike="noStrike">
                <a:solidFill>
                  <a:srgbClr val="775f55"/>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B883-C560-475A-B67A-90917537EE87}" type="slidenum">
              <a:rPr b="1" lang="en-US" sz="2800" spc="-1" strike="noStrike">
                <a:solidFill>
                  <a:srgbClr val="ffffff"/>
                </a:solidFill>
                <a:latin typeface="Tw Cen MT"/>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3AE7-D65D-4ECD-A48E-41F81AF78068}"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ilm Terms &amp; Definitions</a:t>
            </a:r>
            <a:endParaRPr b="0" lang="en-US" sz="44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9" name="Picture 6" descr="http://www.onesmartclick.com/film-making/images/film-making-techniques.jpg"/>
          <p:cNvPicPr/>
          <p:nvPr/>
        </p:nvPicPr>
        <p:blipFill>
          <a:blip r:embed="rId1"/>
          <a:stretch/>
        </p:blipFill>
        <p:spPr>
          <a:xfrm>
            <a:off x="500040" y="1519200"/>
            <a:ext cx="8358120" cy="462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ow Angle Shot</a:t>
            </a:r>
            <a:endParaRPr b="0" lang="en-US" sz="4400" spc="-1" strike="noStrike">
              <a:solidFill>
                <a:srgbClr val="775f55"/>
              </a:solidFill>
              <a:latin typeface="Tw Cen MT"/>
            </a:endParaRPr>
          </a:p>
        </p:txBody>
      </p:sp>
      <p:sp>
        <p:nvSpPr>
          <p:cNvPr id="387" name=""/>
          <p:cNvSpPr txBox="1"/>
          <p:nvPr/>
        </p:nvSpPr>
        <p:spPr>
          <a:xfrm>
            <a:off x="609120" y="1589040"/>
            <a:ext cx="3886200" cy="4572000"/>
          </a:xfrm>
          <a:prstGeom prst="rect">
            <a:avLst/>
          </a:prstGeom>
          <a:noFill/>
          <a:ln w="0">
            <a:noFill/>
          </a:ln>
        </p:spPr>
        <p:txBody>
          <a:bodyPr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amera is positioned low, looking UP. This emphasises the size of the object in the frame. Can often make the subject look powerful, dominant, strong, influential</a:t>
            </a:r>
            <a:endParaRPr b="0" lang="en-US" sz="2900" spc="-1" strike="noStrike">
              <a:solidFill>
                <a:srgbClr val="000000"/>
              </a:solidFill>
              <a:latin typeface="Tw Cen MT"/>
            </a:endParaRPr>
          </a:p>
        </p:txBody>
      </p:sp>
      <p:sp>
        <p:nvSpPr>
          <p:cNvPr id="38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9" name="Picture 2" descr="http://www.depauw.edu/acad/film/images/low_angle.jpg"/>
          <p:cNvPicPr/>
          <p:nvPr/>
        </p:nvPicPr>
        <p:blipFill>
          <a:blip r:embed="rId1"/>
          <a:stretch/>
        </p:blipFill>
        <p:spPr>
          <a:xfrm>
            <a:off x="4786200" y="1500120"/>
            <a:ext cx="3978360" cy="492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igh Angle Shot</a:t>
            </a:r>
            <a:endParaRPr b="0" lang="en-US" sz="4400" spc="-1" strike="noStrike">
              <a:solidFill>
                <a:srgbClr val="775f55"/>
              </a:solidFill>
              <a:latin typeface="Tw Cen MT"/>
            </a:endParaRPr>
          </a:p>
        </p:txBody>
      </p:sp>
      <p:sp>
        <p:nvSpPr>
          <p:cNvPr id="39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amera is positioned high, looking DOWN. Emphasises the vulnerability, weakness, helplessness of the object or person.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3" name="Picture 2" descr="http://upload.wikimedia.org/wikipedia/commons/thumb/1/17/Boy_from_above.jpg/180px-Boy_from_above.jpg"/>
          <p:cNvPicPr/>
          <p:nvPr/>
        </p:nvPicPr>
        <p:blipFill>
          <a:blip r:embed="rId1"/>
          <a:stretch/>
        </p:blipFill>
        <p:spPr>
          <a:xfrm>
            <a:off x="4857840" y="1571760"/>
            <a:ext cx="3809880" cy="50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ide Angle Shot</a:t>
            </a:r>
            <a:endParaRPr b="0" lang="en-US" sz="44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ives a wide angle view to the background or setting of action. </a:t>
            </a:r>
            <a:endParaRPr b="0" lang="en-US" sz="2900" spc="-1" strike="noStrike">
              <a:solidFill>
                <a:srgbClr val="000000"/>
              </a:solidFill>
              <a:latin typeface="Tw Cen MT"/>
            </a:endParaRPr>
          </a:p>
        </p:txBody>
      </p:sp>
      <p:pic>
        <p:nvPicPr>
          <p:cNvPr id="396" name="Picture 2" descr="http://img2.allposters.com/images/LIFPOD/1050722.jpg"/>
          <p:cNvPicPr/>
          <p:nvPr/>
        </p:nvPicPr>
        <p:blipFill>
          <a:blip r:embed="rId1"/>
          <a:stretch/>
        </p:blipFill>
        <p:spPr>
          <a:xfrm>
            <a:off x="714240" y="2500200"/>
            <a:ext cx="6643800" cy="39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int of View Shot</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hot from the perspective of a character ie; seeing it through their eyes</a:t>
            </a:r>
            <a:endParaRPr b="0" lang="en-US" sz="2900" spc="-1" strike="noStrike">
              <a:solidFill>
                <a:srgbClr val="000000"/>
              </a:solidFill>
              <a:latin typeface="Tw Cen MT"/>
            </a:endParaRPr>
          </a:p>
        </p:txBody>
      </p:sp>
      <p:pic>
        <p:nvPicPr>
          <p:cNvPr id="399" name="Picture 2" descr="http://i33.tinypic.com/qrkj0o.png"/>
          <p:cNvPicPr/>
          <p:nvPr/>
        </p:nvPicPr>
        <p:blipFill>
          <a:blip r:embed="rId1"/>
          <a:stretch/>
        </p:blipFill>
        <p:spPr>
          <a:xfrm>
            <a:off x="714240" y="2643120"/>
            <a:ext cx="7429680" cy="385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09120" y="1589040"/>
            <a:ext cx="3891240" cy="49118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ZOOM</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mooth change in focal length to make the objects in the frame appear closer.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zoom in of a face shows detailed features</a:t>
            </a:r>
            <a:endParaRPr b="0" lang="en-US" sz="2900" spc="-1" strike="noStrike">
              <a:solidFill>
                <a:srgbClr val="000000"/>
              </a:solidFill>
              <a:latin typeface="Tw Cen MT"/>
            </a:endParaRPr>
          </a:p>
        </p:txBody>
      </p:sp>
      <p:sp>
        <p:nvSpPr>
          <p:cNvPr id="40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2" name="Picture 2" descr="http://www.hp.com/united-states/consumer/digital_photography/inspirational/tips/img/tips_2_275.jpg"/>
          <p:cNvPicPr/>
          <p:nvPr/>
        </p:nvPicPr>
        <p:blipFill>
          <a:blip r:embed="rId1"/>
          <a:stretch/>
        </p:blipFill>
        <p:spPr>
          <a:xfrm>
            <a:off x="4857840" y="1571760"/>
            <a:ext cx="3857400" cy="46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mera swivels slowly, giving a sweeping view of a wide are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r examp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n across a war scene suggest widespread chaos. </a:t>
            </a:r>
            <a:endParaRPr b="0" lang="en-US" sz="2900" spc="-1" strike="noStrike">
              <a:solidFill>
                <a:srgbClr val="000000"/>
              </a:solidFill>
              <a:latin typeface="Tw Cen MT"/>
            </a:endParaRPr>
          </a:p>
        </p:txBody>
      </p:sp>
      <p:sp>
        <p:nvSpPr>
          <p:cNvPr id="40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5" name="Picture 2" descr="http://3.bp.blogspot.com/_HyyDHyAwI6k/SZrpIotIp3I/AAAAAAAAEu0/FPLvAZiGqcY/s400/afghanistan+obama.jpg"/>
          <p:cNvPicPr/>
          <p:nvPr/>
        </p:nvPicPr>
        <p:blipFill>
          <a:blip r:embed="rId1"/>
          <a:stretch/>
        </p:blipFill>
        <p:spPr>
          <a:xfrm>
            <a:off x="4786200" y="1571760"/>
            <a:ext cx="3810240" cy="471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und effects</a:t>
            </a:r>
            <a:endParaRPr b="0" lang="en-US" sz="4400" spc="-1" strike="noStrike">
              <a:solidFill>
                <a:srgbClr val="775f55"/>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ises other than the spoken voic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8" name="Picture 5" descr="http://farm3.static.flickr.com/2288/2125743441_c7b258da57.jpg"/>
          <p:cNvPicPr/>
          <p:nvPr/>
        </p:nvPicPr>
        <p:blipFill>
          <a:blip r:embed="rId1"/>
          <a:stretch/>
        </p:blipFill>
        <p:spPr>
          <a:xfrm>
            <a:off x="357120" y="2071800"/>
            <a:ext cx="8215560" cy="46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oice Over/Voice Off</a:t>
            </a:r>
            <a:endParaRPr b="0" lang="en-US" sz="44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voice is heard but the person speaking is not on screen or does not appear to be talking. May be an unseen narrator or a character’s thought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11" name="Picture 2" descr="http://www.garygillespie.com/Image/blue%20voice%20over.gif"/>
          <p:cNvPicPr/>
          <p:nvPr/>
        </p:nvPicPr>
        <p:blipFill>
          <a:blip r:embed="rId1"/>
          <a:stretch/>
        </p:blipFill>
        <p:spPr>
          <a:xfrm>
            <a:off x="2428920" y="2941560"/>
            <a:ext cx="388152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ground Noise</a:t>
            </a:r>
            <a:endParaRPr b="0" lang="en-US" sz="4400" spc="-1" strike="noStrike">
              <a:solidFill>
                <a:srgbClr val="775f55"/>
              </a:solidFill>
              <a:latin typeface="Tw Cen MT"/>
            </a:endParaRPr>
          </a:p>
        </p:txBody>
      </p:sp>
      <p:sp>
        <p:nvSpPr>
          <p:cNvPr id="41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creates the atmosphere in a scene For example: the sound of intercoms, a lot of people talking and planes taking off will give the impression of an airport.</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15" name="Picture 6" descr="http://www.fhr-net.co.uk/imgs/news/stansted_airport_launches_noise_consultation.jpg"/>
          <p:cNvPicPr/>
          <p:nvPr/>
        </p:nvPicPr>
        <p:blipFill>
          <a:blip r:embed="rId1"/>
          <a:stretch/>
        </p:blipFill>
        <p:spPr>
          <a:xfrm>
            <a:off x="4857840" y="1571760"/>
            <a:ext cx="3929040" cy="2857320"/>
          </a:xfrm>
          <a:prstGeom prst="rect">
            <a:avLst/>
          </a:prstGeom>
          <a:ln w="0">
            <a:noFill/>
          </a:ln>
        </p:spPr>
      </p:pic>
      <p:pic>
        <p:nvPicPr>
          <p:cNvPr id="416" name="Picture 8" descr="http://www.ci.minneapolis.mn.us/sustainability/images/airport-noise-2.jpg"/>
          <p:cNvPicPr/>
          <p:nvPr/>
        </p:nvPicPr>
        <p:blipFill>
          <a:blip r:embed="rId2"/>
          <a:stretch/>
        </p:blipFill>
        <p:spPr>
          <a:xfrm>
            <a:off x="4857840" y="3786120"/>
            <a:ext cx="3929040" cy="25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ground Music</a:t>
            </a:r>
            <a:endParaRPr b="0" lang="en-US" sz="44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is usually ties in with ACTION! It can be used to let the audience know what is about to happen or to affect their emotions. This music heard at the start of the film sets the tone for the whole film and is sometimes repeated at important times throughout the film. </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419" name="Picture 2" descr="http://blue-fantasy.smartcode.com/images/sshots/blue_fantasy_26592.jpeg"/>
          <p:cNvPicPr/>
          <p:nvPr/>
        </p:nvPicPr>
        <p:blipFill>
          <a:blip r:embed="rId1"/>
          <a:stretch/>
        </p:blipFill>
        <p:spPr>
          <a:xfrm>
            <a:off x="1071720" y="3786120"/>
            <a:ext cx="685800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75f55"/>
                </a:solidFill>
                <a:latin typeface="Tw Cen MT"/>
              </a:rPr>
              <a:t>Setting</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How the setting is used to engage your attention, helps you to understand the character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2" name="Picture 2" descr="http://www.abc.net.au/reslib/200707/r159054_579475.jpg"/>
          <p:cNvPicPr/>
          <p:nvPr/>
        </p:nvPicPr>
        <p:blipFill>
          <a:blip r:embed="rId1"/>
          <a:stretch/>
        </p:blipFill>
        <p:spPr>
          <a:xfrm>
            <a:off x="1928880" y="2571840"/>
            <a:ext cx="5278320" cy="39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fferent types of music (meanings)</a:t>
            </a:r>
            <a:endParaRPr b="0" lang="en-US" sz="4400" spc="-1" strike="noStrike">
              <a:solidFill>
                <a:srgbClr val="775f55"/>
              </a:solidFill>
              <a:latin typeface="Tw Cen MT"/>
            </a:endParaRPr>
          </a:p>
        </p:txBody>
      </p:sp>
      <p:sp>
        <p:nvSpPr>
          <p:cNvPr id="42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ud, rhythmic and fast music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iolence or rapid action</a:t>
            </a:r>
            <a:endParaRPr b="0" lang="en-US" sz="2900" spc="-1" strike="noStrike">
              <a:solidFill>
                <a:srgbClr val="000000"/>
              </a:solidFill>
              <a:latin typeface="Tw Cen MT"/>
            </a:endParaRPr>
          </a:p>
        </p:txBody>
      </p:sp>
      <p:sp>
        <p:nvSpPr>
          <p:cNvPr id="42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3" name="Picture 2" descr="http://www.thesouthasian.org/archives/archives/2006/images/action_2007_arrests.JPG"/>
          <p:cNvPicPr/>
          <p:nvPr/>
        </p:nvPicPr>
        <p:blipFill>
          <a:blip r:embed="rId1"/>
          <a:stretch/>
        </p:blipFill>
        <p:spPr>
          <a:xfrm>
            <a:off x="4786200" y="1571760"/>
            <a:ext cx="4000680" cy="471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ft, melodic, use of harmon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omantic, love, passion, desire</a:t>
            </a:r>
            <a:endParaRPr b="0" lang="en-US" sz="2900" spc="-1" strike="noStrike">
              <a:solidFill>
                <a:srgbClr val="000000"/>
              </a:solidFill>
              <a:latin typeface="Tw Cen MT"/>
            </a:endParaRPr>
          </a:p>
        </p:txBody>
      </p:sp>
      <p:sp>
        <p:nvSpPr>
          <p:cNvPr id="42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6" name="Picture 2" descr="http://farm3.static.flickr.com/2061/2179898926_7d52f47dde.jpg"/>
          <p:cNvPicPr/>
          <p:nvPr/>
        </p:nvPicPr>
        <p:blipFill>
          <a:blip r:embed="rId1"/>
          <a:stretch/>
        </p:blipFill>
        <p:spPr>
          <a:xfrm>
            <a:off x="4786200" y="1571760"/>
            <a:ext cx="4143600" cy="47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dden and harsh, use of brass and percussion (drumm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umorous, witty, comic, entertaining</a:t>
            </a:r>
            <a:endParaRPr b="0" lang="en-US" sz="2900" spc="-1" strike="noStrike">
              <a:solidFill>
                <a:srgbClr val="000000"/>
              </a:solidFill>
              <a:latin typeface="Tw Cen MT"/>
            </a:endParaRPr>
          </a:p>
        </p:txBody>
      </p:sp>
      <p:sp>
        <p:nvSpPr>
          <p:cNvPr id="42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9" name="Picture 2" descr="http://i.dailymail.co.uk/i/pix/2008/09/05/article-1052851-0287004900000578-698_468x342.jpg"/>
          <p:cNvPicPr/>
          <p:nvPr/>
        </p:nvPicPr>
        <p:blipFill>
          <a:blip r:embed="rId1"/>
          <a:stretch/>
        </p:blipFill>
        <p:spPr>
          <a:xfrm>
            <a:off x="4686480" y="1571760"/>
            <a:ext cx="4171680" cy="471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lectronic, synthesiz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ce Fiction</a:t>
            </a:r>
            <a:endParaRPr b="0" lang="en-US" sz="2900" spc="-1" strike="noStrike">
              <a:solidFill>
                <a:srgbClr val="000000"/>
              </a:solidFill>
              <a:latin typeface="Tw Cen MT"/>
            </a:endParaRPr>
          </a:p>
        </p:txBody>
      </p:sp>
      <p:sp>
        <p:nvSpPr>
          <p:cNvPr id="43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2" name="Picture 2" descr="http://pro.corbis.com/images/AABK001095.jpg?size=67&amp;uid=FF0CD599-091F-47D7-AAA5-0174DACE2043"/>
          <p:cNvPicPr/>
          <p:nvPr/>
        </p:nvPicPr>
        <p:blipFill>
          <a:blip r:embed="rId1"/>
          <a:stretch/>
        </p:blipFill>
        <p:spPr>
          <a:xfrm>
            <a:off x="4786200" y="1571760"/>
            <a:ext cx="4000680" cy="507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sing melody, discordant (harsh)</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uilds tension</a:t>
            </a:r>
            <a:endParaRPr b="0" lang="en-US" sz="2900" spc="-1" strike="noStrike">
              <a:solidFill>
                <a:srgbClr val="000000"/>
              </a:solidFill>
              <a:latin typeface="Tw Cen MT"/>
            </a:endParaRPr>
          </a:p>
        </p:txBody>
      </p:sp>
      <p:sp>
        <p:nvSpPr>
          <p:cNvPr id="43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5" name="Picture 2" descr="http://www.worstpreviews.com/images/perfume.gif"/>
          <p:cNvPicPr/>
          <p:nvPr/>
        </p:nvPicPr>
        <p:blipFill>
          <a:blip r:embed="rId1"/>
          <a:stretch/>
        </p:blipFill>
        <p:spPr>
          <a:xfrm>
            <a:off x="4857840" y="1571760"/>
            <a:ext cx="407664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ghting</a:t>
            </a:r>
            <a:endParaRPr b="0" lang="en-US" sz="4400" spc="-1" strike="noStrike">
              <a:solidFill>
                <a:srgbClr val="775f55"/>
              </a:solidFill>
              <a:latin typeface="Tw Cen MT"/>
            </a:endParaRPr>
          </a:p>
        </p:txBody>
      </p:sp>
      <p:sp>
        <p:nvSpPr>
          <p:cNvPr id="43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Lighting can create atmosphere and mood as well as signify meaning</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IGH KEY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harsh and bright</a:t>
            </a:r>
            <a:endParaRPr b="0" lang="en-US" sz="2900" spc="-1" strike="noStrike">
              <a:solidFill>
                <a:srgbClr val="000000"/>
              </a:solidFill>
              <a:latin typeface="Tw Cen MT"/>
            </a:endParaRPr>
          </a:p>
        </p:txBody>
      </p:sp>
      <p:sp>
        <p:nvSpPr>
          <p:cNvPr id="439"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0" name="Picture 4" descr="http://www.littlesproutphotography.com/blog/wp-content/uploads/2009/06/DSC_2268.jpg"/>
          <p:cNvPicPr/>
          <p:nvPr/>
        </p:nvPicPr>
        <p:blipFill>
          <a:blip r:embed="rId1"/>
          <a:stretch/>
        </p:blipFill>
        <p:spPr>
          <a:xfrm>
            <a:off x="4857840" y="1571760"/>
            <a:ext cx="3929040" cy="50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FT KEY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eates romance</a:t>
            </a:r>
            <a:endParaRPr b="0" lang="en-US" sz="2900" spc="-1" strike="noStrike">
              <a:solidFill>
                <a:srgbClr val="000000"/>
              </a:solidFill>
              <a:latin typeface="Tw Cen MT"/>
            </a:endParaRPr>
          </a:p>
        </p:txBody>
      </p:sp>
      <p:sp>
        <p:nvSpPr>
          <p:cNvPr id="44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3" name="Picture 4" descr="http://www.prophotonut.com/wp-content/uploads/2008/11/st1_07.jpg"/>
          <p:cNvPicPr/>
          <p:nvPr/>
        </p:nvPicPr>
        <p:blipFill>
          <a:blip r:embed="rId1"/>
          <a:stretch/>
        </p:blipFill>
        <p:spPr>
          <a:xfrm>
            <a:off x="4857840" y="1571760"/>
            <a:ext cx="385740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42600" y="157176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ot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icks out a character from a group</a:t>
            </a:r>
            <a:endParaRPr b="0" lang="en-US" sz="2900" spc="-1" strike="noStrike">
              <a:solidFill>
                <a:srgbClr val="000000"/>
              </a:solidFill>
              <a:latin typeface="Tw Cen MT"/>
            </a:endParaRPr>
          </a:p>
        </p:txBody>
      </p:sp>
      <p:sp>
        <p:nvSpPr>
          <p:cNvPr id="44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6" name="Picture 4" descr="http://www.microsoft.com/prophoto/images/galleries/matthew-jordan-smith/smith15_gal.jpg"/>
          <p:cNvPicPr/>
          <p:nvPr/>
        </p:nvPicPr>
        <p:blipFill>
          <a:blip r:embed="rId1"/>
          <a:stretch/>
        </p:blipFill>
        <p:spPr>
          <a:xfrm>
            <a:off x="4572000" y="1571760"/>
            <a:ext cx="4214880" cy="478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ULL FACE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s openness and honest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adow can suggest fear or lack of trust.</a:t>
            </a:r>
            <a:endParaRPr b="0" lang="en-US" sz="2900" spc="-1" strike="noStrike">
              <a:solidFill>
                <a:srgbClr val="000000"/>
              </a:solidFill>
              <a:latin typeface="Tw Cen MT"/>
            </a:endParaRPr>
          </a:p>
        </p:txBody>
      </p:sp>
      <p:sp>
        <p:nvSpPr>
          <p:cNvPr id="44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9" name="Picture 6" descr="http://3.bp.blogspot.com/_cMdbfkl3Rz4/RxWF4oNZBUI/AAAAAAAAA3s/g5IjZmb6JWI/s800/screenshot_14.jpg"/>
          <p:cNvPicPr/>
          <p:nvPr/>
        </p:nvPicPr>
        <p:blipFill>
          <a:blip r:embed="rId1"/>
          <a:stretch/>
        </p:blipFill>
        <p:spPr>
          <a:xfrm>
            <a:off x="4857840" y="1500120"/>
            <a:ext cx="4286160" cy="47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75f55"/>
                </a:solidFill>
                <a:latin typeface="Tw Cen MT"/>
              </a:rPr>
              <a:t>Costume/props</a:t>
            </a:r>
            <a:endParaRPr b="0" lang="en-US" sz="4400" spc="-1" strike="noStrike">
              <a:solidFill>
                <a:srgbClr val="775f55"/>
              </a:solidFill>
              <a:latin typeface="Tw Cen MT"/>
            </a:endParaRPr>
          </a:p>
        </p:txBody>
      </p:sp>
      <p:sp>
        <p:nvSpPr>
          <p:cNvPr id="36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lours symbolise specific themes in the film</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	</a:t>
            </a:r>
            <a:endParaRPr b="0" lang="en-US" sz="2900" spc="-1" strike="noStrike">
              <a:solidFill>
                <a:srgbClr val="000000"/>
              </a:solidFill>
              <a:latin typeface="Tw Cen MT"/>
            </a:endParaRPr>
          </a:p>
        </p:txBody>
      </p:sp>
      <p:sp>
        <p:nvSpPr>
          <p:cNvPr id="36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4" descr="http://4.bp.blogspot.com/_G5ycXOLog0w/Sa83i_FLqHI/AAAAAAAAAMU/e-8KELKKPIg/s320/lookingforalibrandi.jpg"/>
          <p:cNvPicPr/>
          <p:nvPr/>
        </p:nvPicPr>
        <p:blipFill>
          <a:blip r:embed="rId1"/>
          <a:stretch/>
        </p:blipFill>
        <p:spPr>
          <a:xfrm>
            <a:off x="4857840" y="1552680"/>
            <a:ext cx="3857400" cy="459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treme Close-Up (ECU)</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hasises a portion of the face or object for detail</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9" name="Picture 2" descr="http://wwwdelivery.superstock.com/WI/223/1569/PreviewComp/SuperStock_1569R-75014.jpg"/>
          <p:cNvPicPr/>
          <p:nvPr/>
        </p:nvPicPr>
        <p:blipFill>
          <a:blip r:embed="rId1"/>
          <a:stretch/>
        </p:blipFill>
        <p:spPr>
          <a:xfrm>
            <a:off x="4357800" y="2214720"/>
            <a:ext cx="4649760" cy="3929040"/>
          </a:xfrm>
          <a:prstGeom prst="rect">
            <a:avLst/>
          </a:prstGeom>
          <a:ln w="0">
            <a:noFill/>
          </a:ln>
        </p:spPr>
      </p:pic>
      <p:pic>
        <p:nvPicPr>
          <p:cNvPr id="370" name="Picture 4" descr="http://thumbs.dreamstime.com/thumb_350/1231129082bb75Cg.jpg"/>
          <p:cNvPicPr/>
          <p:nvPr/>
        </p:nvPicPr>
        <p:blipFill>
          <a:blip r:embed="rId2"/>
          <a:stretch/>
        </p:blipFill>
        <p:spPr>
          <a:xfrm>
            <a:off x="538200" y="2214720"/>
            <a:ext cx="3462480" cy="307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ose-Up (CU)</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ften face on. Draws attention to detail, especially facial reaction. </a:t>
            </a:r>
            <a:endParaRPr b="0" lang="en-US" sz="2900" spc="-1" strike="noStrike">
              <a:solidFill>
                <a:srgbClr val="000000"/>
              </a:solidFill>
              <a:latin typeface="Tw Cen MT"/>
            </a:endParaRPr>
          </a:p>
        </p:txBody>
      </p:sp>
      <p:pic>
        <p:nvPicPr>
          <p:cNvPr id="373" name="Picture 6" descr="http://www.unselfishproductions.com/ann%20promo%20close%20up%20shot.jpg"/>
          <p:cNvPicPr/>
          <p:nvPr/>
        </p:nvPicPr>
        <p:blipFill>
          <a:blip r:embed="rId1"/>
          <a:stretch/>
        </p:blipFill>
        <p:spPr>
          <a:xfrm>
            <a:off x="1571760" y="2500200"/>
            <a:ext cx="496872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dium Close-Up (MCU)</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gure is framed from the CHEST up</a:t>
            </a:r>
            <a:endParaRPr b="0" lang="en-US" sz="2900" spc="-1" strike="noStrike">
              <a:solidFill>
                <a:srgbClr val="000000"/>
              </a:solidFill>
              <a:latin typeface="Tw Cen MT"/>
            </a:endParaRPr>
          </a:p>
        </p:txBody>
      </p:sp>
      <p:pic>
        <p:nvPicPr>
          <p:cNvPr id="376" name="Picture 2" descr="http://www.filmeducation.org/theboyinthestripedpyjamas/images/stills/father.jpg"/>
          <p:cNvPicPr/>
          <p:nvPr/>
        </p:nvPicPr>
        <p:blipFill>
          <a:blip r:embed="rId1"/>
          <a:stretch/>
        </p:blipFill>
        <p:spPr>
          <a:xfrm>
            <a:off x="1000080" y="2143080"/>
            <a:ext cx="6500880" cy="44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dium Shot (MS)</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gure is framed from the WAIST up</a:t>
            </a:r>
            <a:endParaRPr b="0" lang="en-US" sz="2900" spc="-1" strike="noStrike">
              <a:solidFill>
                <a:srgbClr val="000000"/>
              </a:solidFill>
              <a:latin typeface="Tw Cen MT"/>
            </a:endParaRPr>
          </a:p>
        </p:txBody>
      </p:sp>
      <p:pic>
        <p:nvPicPr>
          <p:cNvPr id="379" name="Picture 2" descr="http://www.annamorphic.co.uk/machinima/images/ms2.jpg"/>
          <p:cNvPicPr/>
          <p:nvPr/>
        </p:nvPicPr>
        <p:blipFill>
          <a:blip r:embed="rId1"/>
          <a:stretch/>
        </p:blipFill>
        <p:spPr>
          <a:xfrm>
            <a:off x="1071720" y="2143080"/>
            <a:ext cx="6572160" cy="38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stablishing Shot</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wide shot giving an overview of the scene so the action and setting is shown</a:t>
            </a:r>
            <a:endParaRPr b="0" lang="en-US" sz="2900" spc="-1" strike="noStrike">
              <a:solidFill>
                <a:srgbClr val="000000"/>
              </a:solidFill>
              <a:latin typeface="Tw Cen MT"/>
            </a:endParaRPr>
          </a:p>
        </p:txBody>
      </p:sp>
      <p:pic>
        <p:nvPicPr>
          <p:cNvPr id="382" name="Picture 2" descr="http://www.filmeducation.org/theboyinthestripedpyjamas/images/stills/boys_in_berlin.jpg"/>
          <p:cNvPicPr/>
          <p:nvPr/>
        </p:nvPicPr>
        <p:blipFill>
          <a:blip r:embed="rId1"/>
          <a:stretch/>
        </p:blipFill>
        <p:spPr>
          <a:xfrm>
            <a:off x="1285920" y="2500200"/>
            <a:ext cx="6429240" cy="400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lashback</a:t>
            </a:r>
            <a:endParaRPr b="0" lang="en-US" sz="44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 return to a scene of the past</a:t>
            </a:r>
            <a:endParaRPr b="0" lang="en-US" sz="2900" spc="-1" strike="noStrike">
              <a:solidFill>
                <a:srgbClr val="000000"/>
              </a:solidFill>
              <a:latin typeface="Tw Cen MT"/>
            </a:endParaRPr>
          </a:p>
        </p:txBody>
      </p:sp>
      <p:pic>
        <p:nvPicPr>
          <p:cNvPr id="385" name="Picture 4" descr="http://hollywooddame.com/wp-content/uploads/2009/09/jessica-parker-80s-flashback-scene-for-sex-and-the-city-movie-3.jpg"/>
          <p:cNvPicPr/>
          <p:nvPr/>
        </p:nvPicPr>
        <p:blipFill>
          <a:blip r:embed="rId1"/>
          <a:stretch/>
        </p:blipFill>
        <p:spPr>
          <a:xfrm>
            <a:off x="985680" y="2214720"/>
            <a:ext cx="5776920" cy="406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1T20:12:40Z</dcterms:created>
  <dc:creator>Gould</dc:creator>
  <dc:description/>
  <dc:language>en-US</dc:language>
  <cp:lastModifiedBy>jgould</cp:lastModifiedBy>
  <dcterms:modified xsi:type="dcterms:W3CDTF">2009-11-03T04:02:46Z</dcterms:modified>
  <cp:revision>15</cp:revision>
  <dc:subject/>
  <dc:title>Film Terms &amp; Definitions</dc:title>
</cp:coreProperties>
</file>