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7.jpeg" ContentType="image/jpeg"/>
  <Override PartName="/ppt/media/image28.png" ContentType="image/pn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B42C-333B-43F6-9DCB-A4CA2EC0F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3CC6-D918-406B-B71B-41BBCB90B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64169-883E-44D9-8B4F-22A0CABBF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18D32-A3B7-4ECB-9632-879941A17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E189B-249E-4085-8921-44ED53AFF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2B725-0970-4482-BDFD-7E49CC016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00E6E-6AF7-4BCB-A741-B3802A371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95272-2FC8-4934-9F26-62F4976E3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203CF-4BB6-4A07-BE85-1A862D623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81193-4D60-45F8-9BD2-F1AEA33E7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82A47-B207-4378-907F-BEDA516CB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6BC1D-7569-4EC7-AC31-3A2AAB8AA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A96A6-5002-4073-9AEF-8A5A2BB72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7659D-5C31-4AEF-8145-F892CD230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48F06-7B91-409F-ACEF-0952D2F97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E0057-24D5-4A03-A71E-9FBDBB9A3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BA2ED-301A-4093-B175-4075D4F64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24644-39F1-4C07-A1EC-1E0D96B93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23D17-360F-4FF1-BAE2-2F986988F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3A46CBF-D096-40D0-AA6D-2A05071DBD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2876D09-7168-4148-891E-08DE11C93F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0160CAD-801B-4415-966E-2277FCD96F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644940A-93DB-40E3-8C3F-E70CF1BCB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CA7F671-EC62-4816-9D45-A3E6A31614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A9213-A011-4CB5-8BA5-24BA3D975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0AA5938-EB93-42C3-9501-D7F24FE2F0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439F84-69B0-4717-9E71-EF10A88B7F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1D6DCE-68C1-4A54-BB8F-2DA8B39B8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F25B064-2997-41BB-A817-7AF4CD8A1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08C649-13F9-479E-BB88-42786AFACE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F941331-2DF4-4D13-86ED-757A717E7A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D4BE05F-86E0-47A4-8153-4B48D77203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3ED3657-6693-44CA-AC60-D9411177F6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B9574EF-6334-4887-A072-41B67BA0A7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A63F50B-5140-44A3-A147-2A99C39578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5AF6E-33E5-4675-A526-C95DE05BE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E46108D-27A2-447F-AE03-73702D8355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F4564B5-FAAE-4A69-8E74-715C76B01A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475E175-5C43-440C-A9C0-C5E01B1704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5A2C01-2255-4666-BEC2-7566E64109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3587FF9-C636-446B-B22F-28E3C74462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550CC5-DD4D-443B-9CE3-8014312964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4C9B749-CEF2-4E8D-A2C6-84235242F6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BEAD831-4006-42FD-8A15-75FCC917BF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2DD5CCA-3DFB-4551-9662-8F33E89A99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90461F8-BD70-4C95-A24F-73F61963E8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5BB12-6230-489A-A2F9-B6E0E73C0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F5C1C8C-C62E-4467-8A1E-00C22643FF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18C32DC-DA22-4C86-BCAF-03EE5AB313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B1B720C-3B6D-42B2-B217-417B15FAF1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118990B-F5AC-4760-ACED-E5A4F88548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0FEE1B-CB1C-4AC4-8D65-852B71E4A4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D1457E-52CF-499F-9335-D18BA92491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9C882D-CE0C-4FC9-BD38-B239D013B8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7B8170-3143-4CF4-B8D1-70534FF25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1B242DD-AD05-4B4D-B4C3-90204B17DB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B1CEA54-27B8-40CD-AB33-DBECC1A464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FE9CA-AF33-48F9-9567-D6834F4A1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A46CC70-EA22-40D8-8DAE-DC7AA1DA2B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C85B61-167D-4620-8935-9451DCE0D7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8A8A0C-787D-4456-AC85-F44B0E7EA6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2B69DB-5728-4EC6-875A-C862A8FB68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FD88B3-7CED-4367-A58A-E92E2BAE60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C3E3ED-066D-49D5-BACC-3B9780E7D9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E6D2CF-F2B8-4181-B6D6-BB643EBB83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1F23BD-7CF8-436A-AE55-2040AFBEFA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A9B611-9842-4BC7-8A35-782821F842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93D52D-21E1-4E44-B4DC-9C17B65D47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73155-2B31-4576-8C3D-149274194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68679D-E8A8-4936-BAE9-F20759F49C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37C264-F800-43F2-AFBD-468D45B335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B2BCDC-3658-4871-B8F0-321A7514CD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247E6BB-0AC5-48EB-876F-20523C6C9D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2468056-234B-494D-9978-A9D351F011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94CF30A-BBF5-4869-9C61-DD64A53669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A33EF29-FF4A-43E9-8F15-4D738A2F80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AE39461-FF12-43EB-AA9B-1C5F7A972E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DD6088F-98C1-4E8A-8BC8-4E7D347014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EDFEB1-4A20-4138-845F-C468542AF4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03259-64B2-42F3-9B71-0126DAC27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98F4809-7E51-428A-B4AF-0497014964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026BC4-0BE3-42EE-808B-B39E94E325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11AE860-B117-4453-BC1B-60414C4B12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7B04F59-86B1-4E47-81D4-97A1E0BFF2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60C2188-93C5-41A5-8DD4-00927CFBF0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34D3D0-5ADE-40C6-A9B6-EA58133A89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A74573-0D07-4E5C-9191-DBF3E261F8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05819A-FE7D-43DA-939E-6C9B367D6B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999AAA-C94A-4097-9C8C-66B878284C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8A5033-DD27-4197-B85C-B93522B04A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A6FA6-1A0C-492E-9E98-FBF07C777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0ADF0F-1E43-4D99-B494-7EAAFFE292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E157D9-F301-4641-AC68-92F8BFC026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F50983-1918-466D-A5D0-A7265BD0D7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8FA368-6FEB-47AB-B441-C05EA86C9E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EA900D-0DC8-4C8E-A076-D8427D5A0F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436DF6-9FBA-48EF-9991-07570A9510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7B4DC8-49B8-457C-9D2B-1D11DDE3DF5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3E1A-FE41-42C2-9E5F-F483B9E0EA79}"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B889-B891-4C2F-8C2B-E2CA9C33EE36}" type="slidenum">
              <a:rPr b="1" lang="en-US" sz="1400" spc="-1" strike="noStrike">
                <a:solidFill>
                  <a:srgbClr val="ebddc3"/>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3E01-D583-48FC-95EE-9F0976227E8F}" type="slidenum">
              <a:rPr b="1" lang="en-US" sz="2400" spc="-1" strike="noStrike">
                <a:solidFill>
                  <a:srgbClr val="ffffff"/>
                </a:solidFill>
                <a:latin typeface="Tw Cen MT"/>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6326-F8D2-4321-BA96-71254C808AE9}"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8ACA-51C0-429D-8EA1-B3BC8947D7B3}"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CCE5-6B7D-48AE-B044-7834503A496A}" type="slidenum">
              <a:rPr b="1" lang="en-US" sz="1400" spc="-1" strike="noStrike">
                <a:solidFill>
                  <a:srgbClr val="775f55"/>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8ED8-4759-4C21-8718-8DDB3A643AAB}" type="slidenum">
              <a:rPr b="1" lang="en-US" sz="2800" spc="-1" strike="noStrike">
                <a:solidFill>
                  <a:srgbClr val="ffffff"/>
                </a:solidFill>
                <a:latin typeface="Tw Cen MT"/>
              </a:rPr>
              <a:t>&lt;number&gt;</a:t>
            </a:fld>
            <a:endParaRPr b="0" lang="en-US" sz="2800" spc="-1" strike="noStrike">
              <a:solidFill>
                <a:srgbClr val="000000"/>
              </a:solidFill>
              <a:latin typeface="Arial"/>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0498-D5AF-4997-8063-158E3469D1D8}" type="slidenum">
              <a:rPr b="1" lang="en-US"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ilm Terms &amp; Definitions</a:t>
            </a:r>
            <a:endParaRPr b="0" lang="en-US" sz="44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9" name="Picture 6" descr="http://www.onesmartclick.com/film-making/images/film-making-techniques.jpg"/>
          <p:cNvPicPr/>
          <p:nvPr/>
        </p:nvPicPr>
        <p:blipFill>
          <a:blip r:embed="rId1"/>
          <a:stretch/>
        </p:blipFill>
        <p:spPr>
          <a:xfrm>
            <a:off x="500040" y="1519200"/>
            <a:ext cx="8358120" cy="462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ow Angle Shot</a:t>
            </a:r>
            <a:endParaRPr b="0" lang="en-US" sz="4400" spc="-1" strike="noStrike">
              <a:solidFill>
                <a:srgbClr val="775f55"/>
              </a:solidFill>
              <a:latin typeface="Tw Cen MT"/>
            </a:endParaRPr>
          </a:p>
        </p:txBody>
      </p:sp>
      <p:sp>
        <p:nvSpPr>
          <p:cNvPr id="387" name=""/>
          <p:cNvSpPr txBox="1"/>
          <p:nvPr/>
        </p:nvSpPr>
        <p:spPr>
          <a:xfrm>
            <a:off x="609120" y="1589040"/>
            <a:ext cx="3886200" cy="4572000"/>
          </a:xfrm>
          <a:prstGeom prst="rect">
            <a:avLst/>
          </a:prstGeom>
          <a:noFill/>
          <a:ln w="0">
            <a:noFill/>
          </a:ln>
        </p:spPr>
        <p:txBody>
          <a:bodyPr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amera is positioned low, looking UP. This emphasises the size of the object in the frame. Can often make the subject look powerful, dominant, strong, influential</a:t>
            </a:r>
            <a:endParaRPr b="0" lang="en-US" sz="2900" spc="-1" strike="noStrike">
              <a:solidFill>
                <a:srgbClr val="000000"/>
              </a:solidFill>
              <a:latin typeface="Tw Cen MT"/>
            </a:endParaRPr>
          </a:p>
        </p:txBody>
      </p:sp>
      <p:sp>
        <p:nvSpPr>
          <p:cNvPr id="38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9" name="Picture 2" descr="http://www.depauw.edu/acad/film/images/low_angle.jpg"/>
          <p:cNvPicPr/>
          <p:nvPr/>
        </p:nvPicPr>
        <p:blipFill>
          <a:blip r:embed="rId1"/>
          <a:stretch/>
        </p:blipFill>
        <p:spPr>
          <a:xfrm>
            <a:off x="4786200" y="1500120"/>
            <a:ext cx="3978360" cy="492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igh Angle Shot</a:t>
            </a:r>
            <a:endParaRPr b="0" lang="en-US" sz="4400" spc="-1" strike="noStrike">
              <a:solidFill>
                <a:srgbClr val="775f55"/>
              </a:solidFill>
              <a:latin typeface="Tw Cen MT"/>
            </a:endParaRPr>
          </a:p>
        </p:txBody>
      </p:sp>
      <p:sp>
        <p:nvSpPr>
          <p:cNvPr id="39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amera is positioned high, looking DOWN. Emphasises the vulnerability, weakness, helplessness of the object or person.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93" name="Picture 2" descr="http://upload.wikimedia.org/wikipedia/commons/thumb/1/17/Boy_from_above.jpg/180px-Boy_from_above.jpg"/>
          <p:cNvPicPr/>
          <p:nvPr/>
        </p:nvPicPr>
        <p:blipFill>
          <a:blip r:embed="rId1"/>
          <a:stretch/>
        </p:blipFill>
        <p:spPr>
          <a:xfrm>
            <a:off x="4857840" y="1571760"/>
            <a:ext cx="3809880" cy="50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ide Angle Shot</a:t>
            </a:r>
            <a:endParaRPr b="0" lang="en-US" sz="44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ives a wide angle view to the background or setting of action. </a:t>
            </a:r>
            <a:endParaRPr b="0" lang="en-US" sz="2900" spc="-1" strike="noStrike">
              <a:solidFill>
                <a:srgbClr val="000000"/>
              </a:solidFill>
              <a:latin typeface="Tw Cen MT"/>
            </a:endParaRPr>
          </a:p>
        </p:txBody>
      </p:sp>
      <p:pic>
        <p:nvPicPr>
          <p:cNvPr id="396" name="Picture 2" descr="http://img2.allposters.com/images/LIFPOD/1050722.jpg"/>
          <p:cNvPicPr/>
          <p:nvPr/>
        </p:nvPicPr>
        <p:blipFill>
          <a:blip r:embed="rId1"/>
          <a:stretch/>
        </p:blipFill>
        <p:spPr>
          <a:xfrm>
            <a:off x="714240" y="2500200"/>
            <a:ext cx="6643800" cy="39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int of View Shot</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hot from the perspective of a character ie; seeing it through their eyes</a:t>
            </a:r>
            <a:endParaRPr b="0" lang="en-US" sz="2900" spc="-1" strike="noStrike">
              <a:solidFill>
                <a:srgbClr val="000000"/>
              </a:solidFill>
              <a:latin typeface="Tw Cen MT"/>
            </a:endParaRPr>
          </a:p>
        </p:txBody>
      </p:sp>
      <p:pic>
        <p:nvPicPr>
          <p:cNvPr id="399" name="Picture 2" descr="http://i33.tinypic.com/qrkj0o.png"/>
          <p:cNvPicPr/>
          <p:nvPr/>
        </p:nvPicPr>
        <p:blipFill>
          <a:blip r:embed="rId1"/>
          <a:stretch/>
        </p:blipFill>
        <p:spPr>
          <a:xfrm>
            <a:off x="714240" y="2643120"/>
            <a:ext cx="7429680" cy="385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609120" y="1589040"/>
            <a:ext cx="3891240" cy="49118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ZOOM</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mooth change in focal length to make the objects in the frame appear closer.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zoom in of a face shows detailed features</a:t>
            </a:r>
            <a:endParaRPr b="0" lang="en-US" sz="2900" spc="-1" strike="noStrike">
              <a:solidFill>
                <a:srgbClr val="000000"/>
              </a:solidFill>
              <a:latin typeface="Tw Cen MT"/>
            </a:endParaRPr>
          </a:p>
        </p:txBody>
      </p:sp>
      <p:sp>
        <p:nvSpPr>
          <p:cNvPr id="40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2" name="Picture 2" descr="http://www.hp.com/united-states/consumer/digital_photography/inspirational/tips/img/tips_2_275.jpg"/>
          <p:cNvPicPr/>
          <p:nvPr/>
        </p:nvPicPr>
        <p:blipFill>
          <a:blip r:embed="rId1"/>
          <a:stretch/>
        </p:blipFill>
        <p:spPr>
          <a:xfrm>
            <a:off x="4857840" y="1571760"/>
            <a:ext cx="3857400" cy="46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mera swivels slowly, giving a sweeping view of a wide area.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r example: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n across a war scene suggest widespread chaos. </a:t>
            </a:r>
            <a:endParaRPr b="0" lang="en-US" sz="2900" spc="-1" strike="noStrike">
              <a:solidFill>
                <a:srgbClr val="000000"/>
              </a:solidFill>
              <a:latin typeface="Tw Cen MT"/>
            </a:endParaRPr>
          </a:p>
        </p:txBody>
      </p:sp>
      <p:sp>
        <p:nvSpPr>
          <p:cNvPr id="40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5" name="Picture 2" descr="http://3.bp.blogspot.com/_HyyDHyAwI6k/SZrpIotIp3I/AAAAAAAAEu0/FPLvAZiGqcY/s400/afghanistan+obama.jpg"/>
          <p:cNvPicPr/>
          <p:nvPr/>
        </p:nvPicPr>
        <p:blipFill>
          <a:blip r:embed="rId1"/>
          <a:stretch/>
        </p:blipFill>
        <p:spPr>
          <a:xfrm>
            <a:off x="4786200" y="1571760"/>
            <a:ext cx="3810240" cy="471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und effects</a:t>
            </a:r>
            <a:endParaRPr b="0" lang="en-US" sz="4400" spc="-1" strike="noStrike">
              <a:solidFill>
                <a:srgbClr val="775f55"/>
              </a:solidFill>
              <a:latin typeface="Tw Cen MT"/>
            </a:endParaRPr>
          </a:p>
        </p:txBody>
      </p:sp>
      <p:sp>
        <p:nvSpPr>
          <p:cNvPr id="40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ises other than the spoken voic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8" name="Picture 5" descr="http://farm3.static.flickr.com/2288/2125743441_c7b258da57.jpg"/>
          <p:cNvPicPr/>
          <p:nvPr/>
        </p:nvPicPr>
        <p:blipFill>
          <a:blip r:embed="rId1"/>
          <a:stretch/>
        </p:blipFill>
        <p:spPr>
          <a:xfrm>
            <a:off x="357120" y="2071800"/>
            <a:ext cx="8215560" cy="46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oice Over/Voice Off</a:t>
            </a:r>
            <a:endParaRPr b="0" lang="en-US" sz="44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voice is heard but the person speaking is not on screen or does not appear to be talking. May be an unseen narrator or a character’s thought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11" name="Picture 2" descr="http://www.garygillespie.com/Image/blue%20voice%20over.gif"/>
          <p:cNvPicPr/>
          <p:nvPr/>
        </p:nvPicPr>
        <p:blipFill>
          <a:blip r:embed="rId1"/>
          <a:stretch/>
        </p:blipFill>
        <p:spPr>
          <a:xfrm>
            <a:off x="2428920" y="2941560"/>
            <a:ext cx="388152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ground Noise</a:t>
            </a:r>
            <a:endParaRPr b="0" lang="en-US" sz="4400" spc="-1" strike="noStrike">
              <a:solidFill>
                <a:srgbClr val="775f55"/>
              </a:solidFill>
              <a:latin typeface="Tw Cen MT"/>
            </a:endParaRPr>
          </a:p>
        </p:txBody>
      </p:sp>
      <p:sp>
        <p:nvSpPr>
          <p:cNvPr id="41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s creates the atmosphere in a scene For example: the sound of intercoms, a lot of people talking and planes taking off will give the impression of an airport.</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15" name="Picture 6" descr="http://www.fhr-net.co.uk/imgs/news/stansted_airport_launches_noise_consultation.jpg"/>
          <p:cNvPicPr/>
          <p:nvPr/>
        </p:nvPicPr>
        <p:blipFill>
          <a:blip r:embed="rId1"/>
          <a:stretch/>
        </p:blipFill>
        <p:spPr>
          <a:xfrm>
            <a:off x="4857840" y="1571760"/>
            <a:ext cx="3929040" cy="2857320"/>
          </a:xfrm>
          <a:prstGeom prst="rect">
            <a:avLst/>
          </a:prstGeom>
          <a:ln w="0">
            <a:noFill/>
          </a:ln>
        </p:spPr>
      </p:pic>
      <p:pic>
        <p:nvPicPr>
          <p:cNvPr id="416" name="Picture 8" descr="http://www.ci.minneapolis.mn.us/sustainability/images/airport-noise-2.jpg"/>
          <p:cNvPicPr/>
          <p:nvPr/>
        </p:nvPicPr>
        <p:blipFill>
          <a:blip r:embed="rId2"/>
          <a:stretch/>
        </p:blipFill>
        <p:spPr>
          <a:xfrm>
            <a:off x="4857840" y="3786120"/>
            <a:ext cx="3929040" cy="25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ground Music</a:t>
            </a:r>
            <a:endParaRPr b="0" lang="en-US" sz="4400" spc="-1" strike="noStrike">
              <a:solidFill>
                <a:srgbClr val="775f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is usually ties in with ACTION! It can be used to let the audience know what is about to happen or to affect their emotions. This music heard at the start of the film sets the tone for the whole film and is sometimes repeated at important times throughout the film. </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419" name="Picture 2" descr="http://blue-fantasy.smartcode.com/images/sshots/blue_fantasy_26592.jpeg"/>
          <p:cNvPicPr/>
          <p:nvPr/>
        </p:nvPicPr>
        <p:blipFill>
          <a:blip r:embed="rId1"/>
          <a:stretch/>
        </p:blipFill>
        <p:spPr>
          <a:xfrm>
            <a:off x="1071720" y="3786120"/>
            <a:ext cx="6858000" cy="28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75f55"/>
                </a:solidFill>
                <a:latin typeface="Tw Cen MT"/>
              </a:rPr>
              <a:t>Setting</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How the setting is used to engage your attention, helps you to understand the character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2" name="Picture 2" descr="http://www.abc.net.au/reslib/200707/r159054_579475.jpg"/>
          <p:cNvPicPr/>
          <p:nvPr/>
        </p:nvPicPr>
        <p:blipFill>
          <a:blip r:embed="rId1"/>
          <a:stretch/>
        </p:blipFill>
        <p:spPr>
          <a:xfrm>
            <a:off x="1928880" y="2571840"/>
            <a:ext cx="5278320" cy="39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fferent types of music (meanings)</a:t>
            </a:r>
            <a:endParaRPr b="0" lang="en-US" sz="4400" spc="-1" strike="noStrike">
              <a:solidFill>
                <a:srgbClr val="775f55"/>
              </a:solidFill>
              <a:latin typeface="Tw Cen MT"/>
            </a:endParaRPr>
          </a:p>
        </p:txBody>
      </p:sp>
      <p:sp>
        <p:nvSpPr>
          <p:cNvPr id="42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ud, rhythmic and fast music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Violence or rapid action</a:t>
            </a:r>
            <a:endParaRPr b="0" lang="en-US" sz="2900" spc="-1" strike="noStrike">
              <a:solidFill>
                <a:srgbClr val="000000"/>
              </a:solidFill>
              <a:latin typeface="Tw Cen MT"/>
            </a:endParaRPr>
          </a:p>
        </p:txBody>
      </p:sp>
      <p:sp>
        <p:nvSpPr>
          <p:cNvPr id="42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3" name="Picture 2" descr="http://www.thesouthasian.org/archives/archives/2006/images/action_2007_arrests.JPG"/>
          <p:cNvPicPr/>
          <p:nvPr/>
        </p:nvPicPr>
        <p:blipFill>
          <a:blip r:embed="rId1"/>
          <a:stretch/>
        </p:blipFill>
        <p:spPr>
          <a:xfrm>
            <a:off x="4786200" y="1571760"/>
            <a:ext cx="4000680" cy="4714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oft, melodic, use of harmony</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omantic, love, passion, desire</a:t>
            </a:r>
            <a:endParaRPr b="0" lang="en-US" sz="2900" spc="-1" strike="noStrike">
              <a:solidFill>
                <a:srgbClr val="000000"/>
              </a:solidFill>
              <a:latin typeface="Tw Cen MT"/>
            </a:endParaRPr>
          </a:p>
        </p:txBody>
      </p:sp>
      <p:sp>
        <p:nvSpPr>
          <p:cNvPr id="42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6" name="Picture 2" descr="http://farm3.static.flickr.com/2061/2179898926_7d52f47dde.jpg"/>
          <p:cNvPicPr/>
          <p:nvPr/>
        </p:nvPicPr>
        <p:blipFill>
          <a:blip r:embed="rId1"/>
          <a:stretch/>
        </p:blipFill>
        <p:spPr>
          <a:xfrm>
            <a:off x="4786200" y="1571760"/>
            <a:ext cx="4143600" cy="471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dden and harsh, use of brass and percussion (drumm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umorous, witty, comic, entertaining</a:t>
            </a:r>
            <a:endParaRPr b="0" lang="en-US" sz="2900" spc="-1" strike="noStrike">
              <a:solidFill>
                <a:srgbClr val="000000"/>
              </a:solidFill>
              <a:latin typeface="Tw Cen MT"/>
            </a:endParaRPr>
          </a:p>
        </p:txBody>
      </p:sp>
      <p:sp>
        <p:nvSpPr>
          <p:cNvPr id="42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29" name="Picture 2" descr="http://i.dailymail.co.uk/i/pix/2008/09/05/article-1052851-0287004900000578-698_468x342.jpg"/>
          <p:cNvPicPr/>
          <p:nvPr/>
        </p:nvPicPr>
        <p:blipFill>
          <a:blip r:embed="rId1"/>
          <a:stretch/>
        </p:blipFill>
        <p:spPr>
          <a:xfrm>
            <a:off x="4686480" y="1571760"/>
            <a:ext cx="4171680" cy="471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lectronic, synthesiz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ce Fiction</a:t>
            </a:r>
            <a:endParaRPr b="0" lang="en-US" sz="2900" spc="-1" strike="noStrike">
              <a:solidFill>
                <a:srgbClr val="000000"/>
              </a:solidFill>
              <a:latin typeface="Tw Cen MT"/>
            </a:endParaRPr>
          </a:p>
        </p:txBody>
      </p:sp>
      <p:sp>
        <p:nvSpPr>
          <p:cNvPr id="43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2" name="Picture 2" descr="http://pro.corbis.com/images/AABK001095.jpg?size=67&amp;uid=FF0CD599-091F-47D7-AAA5-0174DACE2043"/>
          <p:cNvPicPr/>
          <p:nvPr/>
        </p:nvPicPr>
        <p:blipFill>
          <a:blip r:embed="rId1"/>
          <a:stretch/>
        </p:blipFill>
        <p:spPr>
          <a:xfrm>
            <a:off x="4786200" y="1571760"/>
            <a:ext cx="4000680" cy="507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sing melody, discordant (harsh)</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A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uilds tension</a:t>
            </a:r>
            <a:endParaRPr b="0" lang="en-US" sz="2900" spc="-1" strike="noStrike">
              <a:solidFill>
                <a:srgbClr val="000000"/>
              </a:solidFill>
              <a:latin typeface="Tw Cen MT"/>
            </a:endParaRPr>
          </a:p>
        </p:txBody>
      </p:sp>
      <p:sp>
        <p:nvSpPr>
          <p:cNvPr id="434"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5" name="Picture 2" descr="http://www.worstpreviews.com/images/perfume.gif"/>
          <p:cNvPicPr/>
          <p:nvPr/>
        </p:nvPicPr>
        <p:blipFill>
          <a:blip r:embed="rId1"/>
          <a:stretch/>
        </p:blipFill>
        <p:spPr>
          <a:xfrm>
            <a:off x="4857840" y="1571760"/>
            <a:ext cx="407664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ghting</a:t>
            </a:r>
            <a:endParaRPr b="0" lang="en-US" sz="4400" spc="-1" strike="noStrike">
              <a:solidFill>
                <a:srgbClr val="775f55"/>
              </a:solidFill>
              <a:latin typeface="Tw Cen MT"/>
            </a:endParaRPr>
          </a:p>
        </p:txBody>
      </p:sp>
      <p:sp>
        <p:nvSpPr>
          <p:cNvPr id="43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Lighting can create atmosphere and mood as well as signify meaning</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IGH KEY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 harsh and bright</a:t>
            </a:r>
            <a:endParaRPr b="0" lang="en-US" sz="2900" spc="-1" strike="noStrike">
              <a:solidFill>
                <a:srgbClr val="000000"/>
              </a:solidFill>
              <a:latin typeface="Tw Cen MT"/>
            </a:endParaRPr>
          </a:p>
        </p:txBody>
      </p:sp>
      <p:sp>
        <p:nvSpPr>
          <p:cNvPr id="439"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0" name="Picture 4" descr="http://www.littlesproutphotography.com/blog/wp-content/uploads/2009/06/DSC_2268.jpg"/>
          <p:cNvPicPr/>
          <p:nvPr/>
        </p:nvPicPr>
        <p:blipFill>
          <a:blip r:embed="rId1"/>
          <a:stretch/>
        </p:blipFill>
        <p:spPr>
          <a:xfrm>
            <a:off x="4857840" y="1571760"/>
            <a:ext cx="3929040" cy="50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OFT KEY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reates romance</a:t>
            </a:r>
            <a:endParaRPr b="0" lang="en-US" sz="2900" spc="-1" strike="noStrike">
              <a:solidFill>
                <a:srgbClr val="000000"/>
              </a:solidFill>
              <a:latin typeface="Tw Cen MT"/>
            </a:endParaRPr>
          </a:p>
        </p:txBody>
      </p:sp>
      <p:sp>
        <p:nvSpPr>
          <p:cNvPr id="442"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3" name="Picture 4" descr="http://www.prophotonut.com/wp-content/uploads/2008/11/st1_07.jpg"/>
          <p:cNvPicPr/>
          <p:nvPr/>
        </p:nvPicPr>
        <p:blipFill>
          <a:blip r:embed="rId1"/>
          <a:stretch/>
        </p:blipFill>
        <p:spPr>
          <a:xfrm>
            <a:off x="4857840" y="1571760"/>
            <a:ext cx="3857400" cy="476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642600" y="157176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pot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icks out a character from a group</a:t>
            </a:r>
            <a:endParaRPr b="0" lang="en-US" sz="2900" spc="-1" strike="noStrike">
              <a:solidFill>
                <a:srgbClr val="000000"/>
              </a:solidFill>
              <a:latin typeface="Tw Cen MT"/>
            </a:endParaRPr>
          </a:p>
        </p:txBody>
      </p:sp>
      <p:sp>
        <p:nvSpPr>
          <p:cNvPr id="44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6" name="Picture 4" descr="http://www.microsoft.com/prophoto/images/galleries/matthew-jordan-smith/smith15_gal.jpg"/>
          <p:cNvPicPr/>
          <p:nvPr/>
        </p:nvPicPr>
        <p:blipFill>
          <a:blip r:embed="rId1"/>
          <a:stretch/>
        </p:blipFill>
        <p:spPr>
          <a:xfrm>
            <a:off x="4572000" y="1571760"/>
            <a:ext cx="4214880" cy="478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091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ULL FACE LIGHT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ggests openness and honesty.</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hadow can suggest fear or lack of trust.</a:t>
            </a:r>
            <a:endParaRPr b="0" lang="en-US" sz="2900" spc="-1" strike="noStrike">
              <a:solidFill>
                <a:srgbClr val="000000"/>
              </a:solidFill>
              <a:latin typeface="Tw Cen MT"/>
            </a:endParaRPr>
          </a:p>
        </p:txBody>
      </p:sp>
      <p:sp>
        <p:nvSpPr>
          <p:cNvPr id="44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9" name="Picture 6" descr="http://3.bp.blogspot.com/_cMdbfkl3Rz4/RxWF4oNZBUI/AAAAAAAAA3s/g5IjZmb6JWI/s800/screenshot_14.jpg"/>
          <p:cNvPicPr/>
          <p:nvPr/>
        </p:nvPicPr>
        <p:blipFill>
          <a:blip r:embed="rId1"/>
          <a:stretch/>
        </p:blipFill>
        <p:spPr>
          <a:xfrm>
            <a:off x="4857840" y="1500120"/>
            <a:ext cx="4286160" cy="478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75f55"/>
                </a:solidFill>
                <a:latin typeface="Tw Cen MT"/>
              </a:rPr>
              <a:t>Costume/props</a:t>
            </a:r>
            <a:endParaRPr b="0" lang="en-US" sz="4400" spc="-1" strike="noStrike">
              <a:solidFill>
                <a:srgbClr val="775f55"/>
              </a:solidFill>
              <a:latin typeface="Tw Cen MT"/>
            </a:endParaRPr>
          </a:p>
        </p:txBody>
      </p:sp>
      <p:sp>
        <p:nvSpPr>
          <p:cNvPr id="36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lours symbolise specific themes in the film</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	</a:t>
            </a:r>
            <a:endParaRPr b="0" lang="en-US" sz="2900" spc="-1" strike="noStrike">
              <a:solidFill>
                <a:srgbClr val="000000"/>
              </a:solidFill>
              <a:latin typeface="Tw Cen MT"/>
            </a:endParaRPr>
          </a:p>
        </p:txBody>
      </p:sp>
      <p:sp>
        <p:nvSpPr>
          <p:cNvPr id="36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6" name="Picture 4" descr="http://4.bp.blogspot.com/_G5ycXOLog0w/Sa83i_FLqHI/AAAAAAAAAMU/e-8KELKKPIg/s320/lookingforalibrandi.jpg"/>
          <p:cNvPicPr/>
          <p:nvPr/>
        </p:nvPicPr>
        <p:blipFill>
          <a:blip r:embed="rId1"/>
          <a:stretch/>
        </p:blipFill>
        <p:spPr>
          <a:xfrm>
            <a:off x="4857840" y="1552680"/>
            <a:ext cx="3857400" cy="459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treme Close-Up (ECU)</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hasises a portion of the face or object for detail</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9" name="Picture 2" descr="http://wwwdelivery.superstock.com/WI/223/1569/PreviewComp/SuperStock_1569R-75014.jpg"/>
          <p:cNvPicPr/>
          <p:nvPr/>
        </p:nvPicPr>
        <p:blipFill>
          <a:blip r:embed="rId1"/>
          <a:stretch/>
        </p:blipFill>
        <p:spPr>
          <a:xfrm>
            <a:off x="4357800" y="2214720"/>
            <a:ext cx="4649760" cy="3929040"/>
          </a:xfrm>
          <a:prstGeom prst="rect">
            <a:avLst/>
          </a:prstGeom>
          <a:ln w="0">
            <a:noFill/>
          </a:ln>
        </p:spPr>
      </p:pic>
      <p:pic>
        <p:nvPicPr>
          <p:cNvPr id="370" name="Picture 4" descr="http://thumbs.dreamstime.com/thumb_350/1231129082bb75Cg.jpg"/>
          <p:cNvPicPr/>
          <p:nvPr/>
        </p:nvPicPr>
        <p:blipFill>
          <a:blip r:embed="rId2"/>
          <a:stretch/>
        </p:blipFill>
        <p:spPr>
          <a:xfrm>
            <a:off x="538200" y="2214720"/>
            <a:ext cx="3462480" cy="307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ose-Up (CU)</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ften face on. Draws attention to detail, especially facial reaction. </a:t>
            </a:r>
            <a:endParaRPr b="0" lang="en-US" sz="2900" spc="-1" strike="noStrike">
              <a:solidFill>
                <a:srgbClr val="000000"/>
              </a:solidFill>
              <a:latin typeface="Tw Cen MT"/>
            </a:endParaRPr>
          </a:p>
        </p:txBody>
      </p:sp>
      <p:pic>
        <p:nvPicPr>
          <p:cNvPr id="373" name="Picture 6" descr="http://www.unselfishproductions.com/ann%20promo%20close%20up%20shot.jpg"/>
          <p:cNvPicPr/>
          <p:nvPr/>
        </p:nvPicPr>
        <p:blipFill>
          <a:blip r:embed="rId1"/>
          <a:stretch/>
        </p:blipFill>
        <p:spPr>
          <a:xfrm>
            <a:off x="1571760" y="2500200"/>
            <a:ext cx="4968720" cy="41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edium Close-Up (MCU)</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gure is framed from the CHEST up</a:t>
            </a:r>
            <a:endParaRPr b="0" lang="en-US" sz="2900" spc="-1" strike="noStrike">
              <a:solidFill>
                <a:srgbClr val="000000"/>
              </a:solidFill>
              <a:latin typeface="Tw Cen MT"/>
            </a:endParaRPr>
          </a:p>
        </p:txBody>
      </p:sp>
      <p:pic>
        <p:nvPicPr>
          <p:cNvPr id="376" name="Picture 2" descr="http://www.filmeducation.org/theboyinthestripedpyjamas/images/stills/father.jpg"/>
          <p:cNvPicPr/>
          <p:nvPr/>
        </p:nvPicPr>
        <p:blipFill>
          <a:blip r:embed="rId1"/>
          <a:stretch/>
        </p:blipFill>
        <p:spPr>
          <a:xfrm>
            <a:off x="1000080" y="2143080"/>
            <a:ext cx="6500880" cy="44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edium Shot (MS)</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gure is framed from the WAIST up</a:t>
            </a:r>
            <a:endParaRPr b="0" lang="en-US" sz="2900" spc="-1" strike="noStrike">
              <a:solidFill>
                <a:srgbClr val="000000"/>
              </a:solidFill>
              <a:latin typeface="Tw Cen MT"/>
            </a:endParaRPr>
          </a:p>
        </p:txBody>
      </p:sp>
      <p:pic>
        <p:nvPicPr>
          <p:cNvPr id="379" name="Picture 2" descr="http://www.annamorphic.co.uk/machinima/images/ms2.jpg"/>
          <p:cNvPicPr/>
          <p:nvPr/>
        </p:nvPicPr>
        <p:blipFill>
          <a:blip r:embed="rId1"/>
          <a:stretch/>
        </p:blipFill>
        <p:spPr>
          <a:xfrm>
            <a:off x="1071720" y="2143080"/>
            <a:ext cx="6572160" cy="38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stablishing Shot</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wide shot giving an overview of the scene so the action and setting is shown</a:t>
            </a:r>
            <a:endParaRPr b="0" lang="en-US" sz="2900" spc="-1" strike="noStrike">
              <a:solidFill>
                <a:srgbClr val="000000"/>
              </a:solidFill>
              <a:latin typeface="Tw Cen MT"/>
            </a:endParaRPr>
          </a:p>
        </p:txBody>
      </p:sp>
      <p:pic>
        <p:nvPicPr>
          <p:cNvPr id="382" name="Picture 2" descr="http://www.filmeducation.org/theboyinthestripedpyjamas/images/stills/boys_in_berlin.jpg"/>
          <p:cNvPicPr/>
          <p:nvPr/>
        </p:nvPicPr>
        <p:blipFill>
          <a:blip r:embed="rId1"/>
          <a:stretch/>
        </p:blipFill>
        <p:spPr>
          <a:xfrm>
            <a:off x="1285920" y="2500200"/>
            <a:ext cx="6429240" cy="400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lashback</a:t>
            </a:r>
            <a:endParaRPr b="0" lang="en-US" sz="44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 return to a scene of the past</a:t>
            </a:r>
            <a:endParaRPr b="0" lang="en-US" sz="2900" spc="-1" strike="noStrike">
              <a:solidFill>
                <a:srgbClr val="000000"/>
              </a:solidFill>
              <a:latin typeface="Tw Cen MT"/>
            </a:endParaRPr>
          </a:p>
        </p:txBody>
      </p:sp>
      <p:pic>
        <p:nvPicPr>
          <p:cNvPr id="385" name="Picture 4" descr="http://hollywooddame.com/wp-content/uploads/2009/09/jessica-parker-80s-flashback-scene-for-sex-and-the-city-movie-3.jpg"/>
          <p:cNvPicPr/>
          <p:nvPr/>
        </p:nvPicPr>
        <p:blipFill>
          <a:blip r:embed="rId1"/>
          <a:stretch/>
        </p:blipFill>
        <p:spPr>
          <a:xfrm>
            <a:off x="985680" y="2214720"/>
            <a:ext cx="5776920" cy="406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1T20:12:40Z</dcterms:created>
  <dc:creator>Gould</dc:creator>
  <dc:description/>
  <dc:language>en-US</dc:language>
  <cp:lastModifiedBy>jgould</cp:lastModifiedBy>
  <dcterms:modified xsi:type="dcterms:W3CDTF">2009-11-03T04:02:46Z</dcterms:modified>
  <cp:revision>15</cp:revision>
  <dc:subject/>
  <dc:title>Film Terms &amp; Definitions</dc:title>
</cp:coreProperties>
</file>