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1.jpeg" ContentType="image/jpeg"/>
  <Override PartName="/ppt/media/image19.jpeg" ContentType="image/jpeg"/>
  <Override PartName="/ppt/media/image1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7.jpeg" ContentType="image/jpeg"/>
  <Override PartName="/ppt/media/image28.png" ContentType="image/pn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7F3B-FB1E-4D65-8119-BAA888083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90191-ED72-44B2-8316-312DC54ED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A278A-3867-47F4-94DF-A671C902B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97D47-A792-46A2-8512-BDE33F800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BF4B6-35DA-4BC7-88DA-5D3BE2C45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6F3F3-456B-4C91-820B-1D126E11C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3BDCD-8F20-48D3-A01E-A49F647A86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9AC4A-02ED-4980-95BE-B72FC8031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482AC-AFA4-485B-8D80-7D2C67A0E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2BA16-7C08-456D-B9E9-EBDE54DAB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9311B-7A59-4974-BE68-660C7170F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BEB88-4AB1-4294-9A21-CCDB4BFCE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F6ABE-13FE-4FEA-87A4-99A248C63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F29D3-83CE-4BB5-98B2-62A730E12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E1C6C-01A3-4DE1-AE4B-CA3682322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BB758-AF23-4B8B-93D2-B536CD6B5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31861-239E-4E8B-96B1-1722CD11C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2A6EFC-4A53-4179-AEBC-648EA941A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3DF98A-1593-401D-B7E2-D27448932C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D1F8C11-3A3F-4C9F-840B-3CA3E0B702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719214C-E56F-42C7-AACF-EF315203F6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C775D04-E8AC-4D3C-813C-43D39FBC1F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FBCCAF8-D8B6-4996-B53D-288C9903A8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410E15E-783E-4C24-9ECA-75E9548115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B231C-ED7A-471B-9C64-AA46C077D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E9DCDB6-751C-4B35-A3DF-FE685A8524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09BA945-B34C-4149-A8BD-BB72953DB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E3DB726-CF51-4B12-BE77-ECC09FEFC0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EACC8DF-077D-49C5-8A41-B73C15EBB4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29A63FD-4B5E-45CE-BB07-D1019493C7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278B04B-8530-49E6-8B7C-033687C594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2D8C6F5-800D-468C-8958-CE218FA871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714A56D-4E57-414F-938C-C4312F83A9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4E98A70-7F06-42B8-A95D-2865D765DE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C6B8064-A93A-477D-BE33-A3B5D206AC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72E18-2AAB-4ED7-B4FC-F334BF569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24E370D-18BF-4B76-B022-24556AB98D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38A5995-64E7-4606-AF55-F80C0A3BBB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9D7BF98-6823-4344-B95E-704996BF98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1C58984-F965-4B56-AD1C-AE5AAA8A0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59DC4EF-53C2-4DF1-BC62-75E0E5D184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C3D4369-5521-450F-BE1C-FF65853549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2DCCFAB-26D2-47FC-8F75-F61D9868DA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1430459-9F56-466A-BE3A-8451D64C6D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E43729A-1303-44FF-9FAE-D9B8B8CDF4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7F13300-4B1B-4CFE-9254-0D4966FC6D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C649F-9B77-44EE-B490-DE2D9C957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C0B7FD5-BC2E-4F92-A8D0-BE04A8B991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3FC0DE4-3728-44E4-B29C-DA2F394BA2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DFA6F2F-C1DE-467E-A1CF-582C257BEE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68C55DE-DC23-4213-BF4E-9747D90942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4934ED7-1AFF-4933-A218-C17890A33B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D909E45-8F3A-4796-83ED-22DC6FDC11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1B33E67-966D-4CC6-97B9-55B94EBA8D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ABF4ED-7BE3-4930-8F7C-8F4C52026A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5932B0A-E50A-448A-90FA-D76BD54593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F9CB577-747B-45DC-9EB3-B8F6DB4644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65053-BE1B-456D-B7F6-7B5867B8B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9643938-DF63-46AC-8B12-E52A8A7704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03B304-FF6F-4536-9E5C-FBAD7C153E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9809AF-F0EB-46A7-A1D0-7B00001834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B35215-170F-49C6-9146-6F49AFD5ED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618CC2-D54E-419B-B04A-934CA96676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1080D7-9DEE-4821-8264-EFC598DE98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F96AE9-D05D-4A1B-B0E4-6808F9E59D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478100-2379-43FD-B809-BFD302D6A9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F283D0-3A44-4D1B-B76D-4343ABF776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503DA9-4C84-439F-91E1-1243D59CA7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F5466-11FE-49F7-99CA-77782D7DC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1AD514-8368-4474-8841-6D533427EB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68B682-1E63-4ACC-B459-D8E2C33756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C7AEB4-8EAC-4114-8261-819BE1ABB5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E1BC508-8419-4DD1-9B8F-30F71DDB22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DF627E0-844A-45E3-B12F-9BCDA14F22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0997C12-39CD-4E1E-B409-50509DEA24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700DD05-AF87-4ED0-93DD-BE93915AF1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6C747AE-CB04-471B-AE6E-FC2190CB82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1B893D8-DAE1-4064-B64D-5298E694C4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2147025-E12F-425D-A25D-2041A4D22B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0158E-2314-4719-8A24-AA415E680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C9C7EC8-CE59-4669-BD4C-1156FCCB03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201C434-1DA2-4C90-B87A-6BEB741971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0662268-9EEB-4599-ADFE-D42E4C0E3E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EB81EE9-B341-40B8-9FA9-E0A840CB33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96E991E-4779-4A13-8FC6-80D1D89D9C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5F028A-95B9-47D7-B2CE-1C1E5A9831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D8E697-1440-4C11-87D0-D58DF24487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9C875A-8286-422C-81CB-E164C247FE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DC16CB-80C5-4454-AEBB-4F16090852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A6D4A3-4142-4B90-A298-DEA1D6F47E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E73EA-A60F-4459-90F6-60DBC1087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656EBB-45BE-4F88-A503-6DC9BDCE2A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713A6D-2602-4B0E-A2FF-785934574A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6B7C87-940C-4AF4-99AE-E6D86ED529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E3B906-B6D9-4AC9-B691-908F5FFB1A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14F5E5-2BCC-42DC-AB60-544195607B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DD3162-D6D8-42CD-8A9C-35157DF3C3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A629F6-40FC-465F-98A8-8BD2DCD77B0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D1C0-5FDA-4E4F-A149-4E11B7FCAE0C}"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C2741-2879-4001-B895-090332EC899E}" type="slidenum">
              <a:rPr b="1" lang="en-US" sz="1400" spc="-1" strike="noStrike">
                <a:solidFill>
                  <a:srgbClr val="ebddc3"/>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7581-51EA-40B6-A7ED-1E74BD20F949}" type="slidenum">
              <a:rPr b="1" lang="en-US" sz="2400" spc="-1" strike="noStrike">
                <a:solidFill>
                  <a:srgbClr val="ffffff"/>
                </a:solidFill>
                <a:latin typeface="Tw Cen MT"/>
              </a:rPr>
              <a:t>&lt;number&gt;</a:t>
            </a:fld>
            <a:endParaRPr b="0" lang="en-US" sz="2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A915-32C4-4BAD-9815-6CCA99B9556A}"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3B2D-3353-4530-840D-FE210002E019}"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C530-B0A9-4858-BB45-8739791A83E3}" type="slidenum">
              <a:rPr b="1" lang="en-US" sz="1400" spc="-1" strike="noStrike">
                <a:solidFill>
                  <a:srgbClr val="775f55"/>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6007-E0CE-4739-B0E5-6F15112B187F}" type="slidenum">
              <a:rPr b="1" lang="en-US" sz="2800" spc="-1" strike="noStrike">
                <a:solidFill>
                  <a:srgbClr val="ffffff"/>
                </a:solidFill>
                <a:latin typeface="Tw Cen MT"/>
              </a:rPr>
              <a:t>&lt;number&gt;</a:t>
            </a:fld>
            <a:endParaRPr b="0" lang="en-US" sz="2800" spc="-1" strike="noStrike">
              <a:solidFill>
                <a:srgbClr val="000000"/>
              </a:solidFill>
              <a:latin typeface="Arial"/>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998D-6650-46FF-954B-AD0BA6D7E0B3}"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ilm Terms &amp; Definitions</a:t>
            </a:r>
            <a:endParaRPr b="0" lang="en-US" sz="4400" spc="-1" strike="noStrike">
              <a:solidFill>
                <a:srgbClr val="775f55"/>
              </a:solidFill>
              <a:latin typeface="Tw Cen MT"/>
            </a:endParaRPr>
          </a:p>
        </p:txBody>
      </p:sp>
      <p:sp>
        <p:nvSpPr>
          <p:cNvPr id="35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59" name="Picture 6" descr="http://www.onesmartclick.com/film-making/images/film-making-techniques.jpg"/>
          <p:cNvPicPr/>
          <p:nvPr/>
        </p:nvPicPr>
        <p:blipFill>
          <a:blip r:embed="rId1"/>
          <a:stretch/>
        </p:blipFill>
        <p:spPr>
          <a:xfrm>
            <a:off x="500040" y="1519200"/>
            <a:ext cx="8358120" cy="462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ow Angle Shot</a:t>
            </a:r>
            <a:endParaRPr b="0" lang="en-US" sz="4400" spc="-1" strike="noStrike">
              <a:solidFill>
                <a:srgbClr val="775f55"/>
              </a:solidFill>
              <a:latin typeface="Tw Cen MT"/>
            </a:endParaRPr>
          </a:p>
        </p:txBody>
      </p:sp>
      <p:sp>
        <p:nvSpPr>
          <p:cNvPr id="387" name=""/>
          <p:cNvSpPr txBox="1"/>
          <p:nvPr/>
        </p:nvSpPr>
        <p:spPr>
          <a:xfrm>
            <a:off x="609120" y="1589040"/>
            <a:ext cx="3886200" cy="4572000"/>
          </a:xfrm>
          <a:prstGeom prst="rect">
            <a:avLst/>
          </a:prstGeom>
          <a:noFill/>
          <a:ln w="0">
            <a:noFill/>
          </a:ln>
        </p:spPr>
        <p:txBody>
          <a:bodyPr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camera is positioned low, looking UP. This emphasises the size of the object in the frame. Can often make the subject look powerful, dominant, strong, influential</a:t>
            </a:r>
            <a:endParaRPr b="0" lang="en-US" sz="2900" spc="-1" strike="noStrike">
              <a:solidFill>
                <a:srgbClr val="000000"/>
              </a:solidFill>
              <a:latin typeface="Tw Cen MT"/>
            </a:endParaRPr>
          </a:p>
        </p:txBody>
      </p:sp>
      <p:sp>
        <p:nvSpPr>
          <p:cNvPr id="388"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9" name="Picture 2" descr="http://www.depauw.edu/acad/film/images/low_angle.jpg"/>
          <p:cNvPicPr/>
          <p:nvPr/>
        </p:nvPicPr>
        <p:blipFill>
          <a:blip r:embed="rId1"/>
          <a:stretch/>
        </p:blipFill>
        <p:spPr>
          <a:xfrm>
            <a:off x="4786200" y="1500120"/>
            <a:ext cx="3978360" cy="492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igh Angle Shot</a:t>
            </a:r>
            <a:endParaRPr b="0" lang="en-US" sz="4400" spc="-1" strike="noStrike">
              <a:solidFill>
                <a:srgbClr val="775f55"/>
              </a:solidFill>
              <a:latin typeface="Tw Cen MT"/>
            </a:endParaRPr>
          </a:p>
        </p:txBody>
      </p:sp>
      <p:sp>
        <p:nvSpPr>
          <p:cNvPr id="391"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camera is positioned high, looking DOWN. Emphasises the vulnerability, weakness, helplessness of the object or person.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93" name="Picture 2" descr="http://upload.wikimedia.org/wikipedia/commons/thumb/1/17/Boy_from_above.jpg/180px-Boy_from_above.jpg"/>
          <p:cNvPicPr/>
          <p:nvPr/>
        </p:nvPicPr>
        <p:blipFill>
          <a:blip r:embed="rId1"/>
          <a:stretch/>
        </p:blipFill>
        <p:spPr>
          <a:xfrm>
            <a:off x="4857840" y="1571760"/>
            <a:ext cx="3809880" cy="50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ide Angle Shot</a:t>
            </a:r>
            <a:endParaRPr b="0" lang="en-US" sz="44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ives a wide angle view to the background or setting of action. </a:t>
            </a:r>
            <a:endParaRPr b="0" lang="en-US" sz="2900" spc="-1" strike="noStrike">
              <a:solidFill>
                <a:srgbClr val="000000"/>
              </a:solidFill>
              <a:latin typeface="Tw Cen MT"/>
            </a:endParaRPr>
          </a:p>
        </p:txBody>
      </p:sp>
      <p:pic>
        <p:nvPicPr>
          <p:cNvPr id="396" name="Picture 2" descr="http://img2.allposters.com/images/LIFPOD/1050722.jpg"/>
          <p:cNvPicPr/>
          <p:nvPr/>
        </p:nvPicPr>
        <p:blipFill>
          <a:blip r:embed="rId1"/>
          <a:stretch/>
        </p:blipFill>
        <p:spPr>
          <a:xfrm>
            <a:off x="714240" y="2500200"/>
            <a:ext cx="6643800" cy="39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int of View Shot</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hot from the perspective of a character ie; seeing it through their eyes</a:t>
            </a:r>
            <a:endParaRPr b="0" lang="en-US" sz="2900" spc="-1" strike="noStrike">
              <a:solidFill>
                <a:srgbClr val="000000"/>
              </a:solidFill>
              <a:latin typeface="Tw Cen MT"/>
            </a:endParaRPr>
          </a:p>
        </p:txBody>
      </p:sp>
      <p:pic>
        <p:nvPicPr>
          <p:cNvPr id="399" name="Picture 2" descr="http://i33.tinypic.com/qrkj0o.png"/>
          <p:cNvPicPr/>
          <p:nvPr/>
        </p:nvPicPr>
        <p:blipFill>
          <a:blip r:embed="rId1"/>
          <a:stretch/>
        </p:blipFill>
        <p:spPr>
          <a:xfrm>
            <a:off x="714240" y="2643120"/>
            <a:ext cx="7429680" cy="385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609120" y="1589040"/>
            <a:ext cx="3891240" cy="491184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ZOOM</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mooth change in focal length to make the objects in the frame appear closer.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zoom in of a face shows detailed features</a:t>
            </a:r>
            <a:endParaRPr b="0" lang="en-US" sz="2900" spc="-1" strike="noStrike">
              <a:solidFill>
                <a:srgbClr val="000000"/>
              </a:solidFill>
              <a:latin typeface="Tw Cen MT"/>
            </a:endParaRPr>
          </a:p>
        </p:txBody>
      </p:sp>
      <p:sp>
        <p:nvSpPr>
          <p:cNvPr id="40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2" name="Picture 2" descr="http://www.hp.com/united-states/consumer/digital_photography/inspirational/tips/img/tips_2_275.jpg"/>
          <p:cNvPicPr/>
          <p:nvPr/>
        </p:nvPicPr>
        <p:blipFill>
          <a:blip r:embed="rId1"/>
          <a:stretch/>
        </p:blipFill>
        <p:spPr>
          <a:xfrm>
            <a:off x="4857840" y="1571760"/>
            <a:ext cx="3857400" cy="46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amera swivels slowly, giving a sweeping view of a wide area.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r example: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n across a war scene suggest widespread chaos. </a:t>
            </a:r>
            <a:endParaRPr b="0" lang="en-US" sz="2900" spc="-1" strike="noStrike">
              <a:solidFill>
                <a:srgbClr val="000000"/>
              </a:solidFill>
              <a:latin typeface="Tw Cen MT"/>
            </a:endParaRPr>
          </a:p>
        </p:txBody>
      </p:sp>
      <p:sp>
        <p:nvSpPr>
          <p:cNvPr id="404"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5" name="Picture 2" descr="http://3.bp.blogspot.com/_HyyDHyAwI6k/SZrpIotIp3I/AAAAAAAAEu0/FPLvAZiGqcY/s400/afghanistan+obama.jpg"/>
          <p:cNvPicPr/>
          <p:nvPr/>
        </p:nvPicPr>
        <p:blipFill>
          <a:blip r:embed="rId1"/>
          <a:stretch/>
        </p:blipFill>
        <p:spPr>
          <a:xfrm>
            <a:off x="4786200" y="1571760"/>
            <a:ext cx="3810240" cy="471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und effects</a:t>
            </a:r>
            <a:endParaRPr b="0" lang="en-US" sz="4400" spc="-1" strike="noStrike">
              <a:solidFill>
                <a:srgbClr val="775f55"/>
              </a:solidFill>
              <a:latin typeface="Tw Cen MT"/>
            </a:endParaRPr>
          </a:p>
        </p:txBody>
      </p:sp>
      <p:sp>
        <p:nvSpPr>
          <p:cNvPr id="40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oises other than the spoken voice.</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8" name="Picture 5" descr="http://farm3.static.flickr.com/2288/2125743441_c7b258da57.jpg"/>
          <p:cNvPicPr/>
          <p:nvPr/>
        </p:nvPicPr>
        <p:blipFill>
          <a:blip r:embed="rId1"/>
          <a:stretch/>
        </p:blipFill>
        <p:spPr>
          <a:xfrm>
            <a:off x="357120" y="2071800"/>
            <a:ext cx="8215560" cy="464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oice Over/Voice Off</a:t>
            </a:r>
            <a:endParaRPr b="0" lang="en-US" sz="4400" spc="-1" strike="noStrike">
              <a:solidFill>
                <a:srgbClr val="775f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voice is heard but the person speaking is not on screen or does not appear to be talking. May be an unseen narrator or a character’s thought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11" name="Picture 2" descr="http://www.garygillespie.com/Image/blue%20voice%20over.gif"/>
          <p:cNvPicPr/>
          <p:nvPr/>
        </p:nvPicPr>
        <p:blipFill>
          <a:blip r:embed="rId1"/>
          <a:stretch/>
        </p:blipFill>
        <p:spPr>
          <a:xfrm>
            <a:off x="2428920" y="2941560"/>
            <a:ext cx="3881520" cy="39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ckground Noise</a:t>
            </a:r>
            <a:endParaRPr b="0" lang="en-US" sz="4400" spc="-1" strike="noStrike">
              <a:solidFill>
                <a:srgbClr val="775f55"/>
              </a:solidFill>
              <a:latin typeface="Tw Cen MT"/>
            </a:endParaRPr>
          </a:p>
        </p:txBody>
      </p:sp>
      <p:sp>
        <p:nvSpPr>
          <p:cNvPr id="413"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s creates the atmosphere in a scene For example: the sound of intercoms, a lot of people talking and planes taking off will give the impression of an airport.</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15" name="Picture 6" descr="http://www.fhr-net.co.uk/imgs/news/stansted_airport_launches_noise_consultation.jpg"/>
          <p:cNvPicPr/>
          <p:nvPr/>
        </p:nvPicPr>
        <p:blipFill>
          <a:blip r:embed="rId1"/>
          <a:stretch/>
        </p:blipFill>
        <p:spPr>
          <a:xfrm>
            <a:off x="4857840" y="1571760"/>
            <a:ext cx="3929040" cy="2857320"/>
          </a:xfrm>
          <a:prstGeom prst="rect">
            <a:avLst/>
          </a:prstGeom>
          <a:ln w="0">
            <a:noFill/>
          </a:ln>
        </p:spPr>
      </p:pic>
      <p:pic>
        <p:nvPicPr>
          <p:cNvPr id="416" name="Picture 8" descr="http://www.ci.minneapolis.mn.us/sustainability/images/airport-noise-2.jpg"/>
          <p:cNvPicPr/>
          <p:nvPr/>
        </p:nvPicPr>
        <p:blipFill>
          <a:blip r:embed="rId2"/>
          <a:stretch/>
        </p:blipFill>
        <p:spPr>
          <a:xfrm>
            <a:off x="4857840" y="3786120"/>
            <a:ext cx="3929040" cy="257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ckground Music</a:t>
            </a:r>
            <a:endParaRPr b="0" lang="en-US" sz="4400" spc="-1" strike="noStrike">
              <a:solidFill>
                <a:srgbClr val="775f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is usually ties in with ACTION! It can be used to let the audience know what is about to happen or to affect their emotions. This music heard at the start of the film sets the tone for the whole film and is sometimes repeated at important times throughout the film. </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419" name="Picture 2" descr="http://blue-fantasy.smartcode.com/images/sshots/blue_fantasy_26592.jpeg"/>
          <p:cNvPicPr/>
          <p:nvPr/>
        </p:nvPicPr>
        <p:blipFill>
          <a:blip r:embed="rId1"/>
          <a:stretch/>
        </p:blipFill>
        <p:spPr>
          <a:xfrm>
            <a:off x="1071720" y="3786120"/>
            <a:ext cx="6858000" cy="285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75f55"/>
                </a:solidFill>
                <a:latin typeface="Tw Cen MT"/>
              </a:rPr>
              <a:t>Setting</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How the setting is used to engage your attention, helps you to understand the character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2" name="Picture 2" descr="http://www.abc.net.au/reslib/200707/r159054_579475.jpg"/>
          <p:cNvPicPr/>
          <p:nvPr/>
        </p:nvPicPr>
        <p:blipFill>
          <a:blip r:embed="rId1"/>
          <a:stretch/>
        </p:blipFill>
        <p:spPr>
          <a:xfrm>
            <a:off x="1928880" y="2571840"/>
            <a:ext cx="5278320" cy="395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fferent types of music (meanings)</a:t>
            </a:r>
            <a:endParaRPr b="0" lang="en-US" sz="4400" spc="-1" strike="noStrike">
              <a:solidFill>
                <a:srgbClr val="775f55"/>
              </a:solidFill>
              <a:latin typeface="Tw Cen MT"/>
            </a:endParaRPr>
          </a:p>
        </p:txBody>
      </p:sp>
      <p:sp>
        <p:nvSpPr>
          <p:cNvPr id="421"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ud, rhythmic and fast music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Violence or rapid action</a:t>
            </a:r>
            <a:endParaRPr b="0" lang="en-US" sz="2900" spc="-1" strike="noStrike">
              <a:solidFill>
                <a:srgbClr val="000000"/>
              </a:solidFill>
              <a:latin typeface="Tw Cen MT"/>
            </a:endParaRPr>
          </a:p>
        </p:txBody>
      </p:sp>
      <p:sp>
        <p:nvSpPr>
          <p:cNvPr id="422"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23" name="Picture 2" descr="http://www.thesouthasian.org/archives/archives/2006/images/action_2007_arrests.JPG"/>
          <p:cNvPicPr/>
          <p:nvPr/>
        </p:nvPicPr>
        <p:blipFill>
          <a:blip r:embed="rId1"/>
          <a:stretch/>
        </p:blipFill>
        <p:spPr>
          <a:xfrm>
            <a:off x="4786200" y="1571760"/>
            <a:ext cx="4000680" cy="4714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oft, melodic, use of harmony</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omantic, love, passion, desire</a:t>
            </a:r>
            <a:endParaRPr b="0" lang="en-US" sz="2900" spc="-1" strike="noStrike">
              <a:solidFill>
                <a:srgbClr val="000000"/>
              </a:solidFill>
              <a:latin typeface="Tw Cen MT"/>
            </a:endParaRPr>
          </a:p>
        </p:txBody>
      </p:sp>
      <p:sp>
        <p:nvSpPr>
          <p:cNvPr id="42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26" name="Picture 2" descr="http://farm3.static.flickr.com/2061/2179898926_7d52f47dde.jpg"/>
          <p:cNvPicPr/>
          <p:nvPr/>
        </p:nvPicPr>
        <p:blipFill>
          <a:blip r:embed="rId1"/>
          <a:stretch/>
        </p:blipFill>
        <p:spPr>
          <a:xfrm>
            <a:off x="4786200" y="1571760"/>
            <a:ext cx="4143600" cy="471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dden and harsh, use of brass and percussion (drumm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umorous, witty, comic, entertaining</a:t>
            </a:r>
            <a:endParaRPr b="0" lang="en-US" sz="2900" spc="-1" strike="noStrike">
              <a:solidFill>
                <a:srgbClr val="000000"/>
              </a:solidFill>
              <a:latin typeface="Tw Cen MT"/>
            </a:endParaRPr>
          </a:p>
        </p:txBody>
      </p:sp>
      <p:sp>
        <p:nvSpPr>
          <p:cNvPr id="428"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29" name="Picture 2" descr="http://i.dailymail.co.uk/i/pix/2008/09/05/article-1052851-0287004900000578-698_468x342.jpg"/>
          <p:cNvPicPr/>
          <p:nvPr/>
        </p:nvPicPr>
        <p:blipFill>
          <a:blip r:embed="rId1"/>
          <a:stretch/>
        </p:blipFill>
        <p:spPr>
          <a:xfrm>
            <a:off x="4686480" y="1571760"/>
            <a:ext cx="4171680" cy="471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lectronic, synthesized</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cience Fiction</a:t>
            </a:r>
            <a:endParaRPr b="0" lang="en-US" sz="2900" spc="-1" strike="noStrike">
              <a:solidFill>
                <a:srgbClr val="000000"/>
              </a:solidFill>
              <a:latin typeface="Tw Cen MT"/>
            </a:endParaRPr>
          </a:p>
        </p:txBody>
      </p:sp>
      <p:sp>
        <p:nvSpPr>
          <p:cNvPr id="43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32" name="Picture 2" descr="http://pro.corbis.com/images/AABK001095.jpg?size=67&amp;uid=FF0CD599-091F-47D7-AAA5-0174DACE2043"/>
          <p:cNvPicPr/>
          <p:nvPr/>
        </p:nvPicPr>
        <p:blipFill>
          <a:blip r:embed="rId1"/>
          <a:stretch/>
        </p:blipFill>
        <p:spPr>
          <a:xfrm>
            <a:off x="4786200" y="1571760"/>
            <a:ext cx="4000680" cy="507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sing melody, discordant (harsh)</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uilds tension</a:t>
            </a:r>
            <a:endParaRPr b="0" lang="en-US" sz="2900" spc="-1" strike="noStrike">
              <a:solidFill>
                <a:srgbClr val="000000"/>
              </a:solidFill>
              <a:latin typeface="Tw Cen MT"/>
            </a:endParaRPr>
          </a:p>
        </p:txBody>
      </p:sp>
      <p:sp>
        <p:nvSpPr>
          <p:cNvPr id="434"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35" name="Picture 2" descr="http://www.worstpreviews.com/images/perfume.gif"/>
          <p:cNvPicPr/>
          <p:nvPr/>
        </p:nvPicPr>
        <p:blipFill>
          <a:blip r:embed="rId1"/>
          <a:stretch/>
        </p:blipFill>
        <p:spPr>
          <a:xfrm>
            <a:off x="4857840" y="1571760"/>
            <a:ext cx="4076640" cy="457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ighting</a:t>
            </a:r>
            <a:endParaRPr b="0" lang="en-US" sz="4400" spc="-1" strike="noStrike">
              <a:solidFill>
                <a:srgbClr val="775f55"/>
              </a:solidFill>
              <a:latin typeface="Tw Cen MT"/>
            </a:endParaRPr>
          </a:p>
        </p:txBody>
      </p:sp>
      <p:sp>
        <p:nvSpPr>
          <p:cNvPr id="43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Lighting can create atmosphere and mood as well as signify meaning</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IGH KEY 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s harsh and bright</a:t>
            </a:r>
            <a:endParaRPr b="0" lang="en-US" sz="2900" spc="-1" strike="noStrike">
              <a:solidFill>
                <a:srgbClr val="000000"/>
              </a:solidFill>
              <a:latin typeface="Tw Cen MT"/>
            </a:endParaRPr>
          </a:p>
        </p:txBody>
      </p:sp>
      <p:sp>
        <p:nvSpPr>
          <p:cNvPr id="439"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0" name="Picture 4" descr="http://www.littlesproutphotography.com/blog/wp-content/uploads/2009/06/DSC_2268.jpg"/>
          <p:cNvPicPr/>
          <p:nvPr/>
        </p:nvPicPr>
        <p:blipFill>
          <a:blip r:embed="rId1"/>
          <a:stretch/>
        </p:blipFill>
        <p:spPr>
          <a:xfrm>
            <a:off x="4857840" y="1571760"/>
            <a:ext cx="3929040" cy="50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OFT KEY 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reates romance</a:t>
            </a:r>
            <a:endParaRPr b="0" lang="en-US" sz="2900" spc="-1" strike="noStrike">
              <a:solidFill>
                <a:srgbClr val="000000"/>
              </a:solidFill>
              <a:latin typeface="Tw Cen MT"/>
            </a:endParaRPr>
          </a:p>
        </p:txBody>
      </p:sp>
      <p:sp>
        <p:nvSpPr>
          <p:cNvPr id="442"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3" name="Picture 4" descr="http://www.prophotonut.com/wp-content/uploads/2008/11/st1_07.jpg"/>
          <p:cNvPicPr/>
          <p:nvPr/>
        </p:nvPicPr>
        <p:blipFill>
          <a:blip r:embed="rId1"/>
          <a:stretch/>
        </p:blipFill>
        <p:spPr>
          <a:xfrm>
            <a:off x="4857840" y="1571760"/>
            <a:ext cx="3857400" cy="476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642600" y="157176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pot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icks out a character from a group</a:t>
            </a:r>
            <a:endParaRPr b="0" lang="en-US" sz="2900" spc="-1" strike="noStrike">
              <a:solidFill>
                <a:srgbClr val="000000"/>
              </a:solidFill>
              <a:latin typeface="Tw Cen MT"/>
            </a:endParaRPr>
          </a:p>
        </p:txBody>
      </p:sp>
      <p:sp>
        <p:nvSpPr>
          <p:cNvPr id="44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6" name="Picture 4" descr="http://www.microsoft.com/prophoto/images/galleries/matthew-jordan-smith/smith15_gal.jpg"/>
          <p:cNvPicPr/>
          <p:nvPr/>
        </p:nvPicPr>
        <p:blipFill>
          <a:blip r:embed="rId1"/>
          <a:stretch/>
        </p:blipFill>
        <p:spPr>
          <a:xfrm>
            <a:off x="4572000" y="1571760"/>
            <a:ext cx="4214880" cy="4786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ULL FACE 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ggests openness and honesty.</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hadow can suggest fear or lack of trust.</a:t>
            </a:r>
            <a:endParaRPr b="0" lang="en-US" sz="2900" spc="-1" strike="noStrike">
              <a:solidFill>
                <a:srgbClr val="000000"/>
              </a:solidFill>
              <a:latin typeface="Tw Cen MT"/>
            </a:endParaRPr>
          </a:p>
        </p:txBody>
      </p:sp>
      <p:sp>
        <p:nvSpPr>
          <p:cNvPr id="448"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9" name="Picture 6" descr="http://3.bp.blogspot.com/_cMdbfkl3Rz4/RxWF4oNZBUI/AAAAAAAAA3s/g5IjZmb6JWI/s800/screenshot_14.jpg"/>
          <p:cNvPicPr/>
          <p:nvPr/>
        </p:nvPicPr>
        <p:blipFill>
          <a:blip r:embed="rId1"/>
          <a:stretch/>
        </p:blipFill>
        <p:spPr>
          <a:xfrm>
            <a:off x="4857840" y="1500120"/>
            <a:ext cx="4286160" cy="478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75f55"/>
                </a:solidFill>
                <a:latin typeface="Tw Cen MT"/>
              </a:rPr>
              <a:t>Costume/props</a:t>
            </a:r>
            <a:endParaRPr b="0" lang="en-US" sz="4400" spc="-1" strike="noStrike">
              <a:solidFill>
                <a:srgbClr val="775f55"/>
              </a:solidFill>
              <a:latin typeface="Tw Cen MT"/>
            </a:endParaRPr>
          </a:p>
        </p:txBody>
      </p:sp>
      <p:sp>
        <p:nvSpPr>
          <p:cNvPr id="36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olours symbolise specific themes in the film</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	</a:t>
            </a:r>
            <a:endParaRPr b="0" lang="en-US" sz="2900" spc="-1" strike="noStrike">
              <a:solidFill>
                <a:srgbClr val="000000"/>
              </a:solidFill>
              <a:latin typeface="Tw Cen MT"/>
            </a:endParaRPr>
          </a:p>
        </p:txBody>
      </p:sp>
      <p:sp>
        <p:nvSpPr>
          <p:cNvPr id="36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6" name="Picture 4" descr="http://4.bp.blogspot.com/_G5ycXOLog0w/Sa83i_FLqHI/AAAAAAAAAMU/e-8KELKKPIg/s320/lookingforalibrandi.jpg"/>
          <p:cNvPicPr/>
          <p:nvPr/>
        </p:nvPicPr>
        <p:blipFill>
          <a:blip r:embed="rId1"/>
          <a:stretch/>
        </p:blipFill>
        <p:spPr>
          <a:xfrm>
            <a:off x="4857840" y="1552680"/>
            <a:ext cx="3857400" cy="459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treme Close-Up (ECU)</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hasises a portion of the face or object for detail</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9" name="Picture 2" descr="http://wwwdelivery.superstock.com/WI/223/1569/PreviewComp/SuperStock_1569R-75014.jpg"/>
          <p:cNvPicPr/>
          <p:nvPr/>
        </p:nvPicPr>
        <p:blipFill>
          <a:blip r:embed="rId1"/>
          <a:stretch/>
        </p:blipFill>
        <p:spPr>
          <a:xfrm>
            <a:off x="4357800" y="2214720"/>
            <a:ext cx="4649760" cy="3929040"/>
          </a:xfrm>
          <a:prstGeom prst="rect">
            <a:avLst/>
          </a:prstGeom>
          <a:ln w="0">
            <a:noFill/>
          </a:ln>
        </p:spPr>
      </p:pic>
      <p:pic>
        <p:nvPicPr>
          <p:cNvPr id="370" name="Picture 4" descr="http://thumbs.dreamstime.com/thumb_350/1231129082bb75Cg.jpg"/>
          <p:cNvPicPr/>
          <p:nvPr/>
        </p:nvPicPr>
        <p:blipFill>
          <a:blip r:embed="rId2"/>
          <a:stretch/>
        </p:blipFill>
        <p:spPr>
          <a:xfrm>
            <a:off x="538200" y="2214720"/>
            <a:ext cx="3462480" cy="307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ose-Up (CU)</a:t>
            </a:r>
            <a:endParaRPr b="0" lang="en-US" sz="44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ften face on. Draws attention to detail, especially facial reaction. </a:t>
            </a:r>
            <a:endParaRPr b="0" lang="en-US" sz="2900" spc="-1" strike="noStrike">
              <a:solidFill>
                <a:srgbClr val="000000"/>
              </a:solidFill>
              <a:latin typeface="Tw Cen MT"/>
            </a:endParaRPr>
          </a:p>
        </p:txBody>
      </p:sp>
      <p:pic>
        <p:nvPicPr>
          <p:cNvPr id="373" name="Picture 6" descr="http://www.unselfishproductions.com/ann%20promo%20close%20up%20shot.jpg"/>
          <p:cNvPicPr/>
          <p:nvPr/>
        </p:nvPicPr>
        <p:blipFill>
          <a:blip r:embed="rId1"/>
          <a:stretch/>
        </p:blipFill>
        <p:spPr>
          <a:xfrm>
            <a:off x="1571760" y="2500200"/>
            <a:ext cx="4968720" cy="41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edium Close-Up (MCU)</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gure is framed from the CHEST up</a:t>
            </a:r>
            <a:endParaRPr b="0" lang="en-US" sz="2900" spc="-1" strike="noStrike">
              <a:solidFill>
                <a:srgbClr val="000000"/>
              </a:solidFill>
              <a:latin typeface="Tw Cen MT"/>
            </a:endParaRPr>
          </a:p>
        </p:txBody>
      </p:sp>
      <p:pic>
        <p:nvPicPr>
          <p:cNvPr id="376" name="Picture 2" descr="http://www.filmeducation.org/theboyinthestripedpyjamas/images/stills/father.jpg"/>
          <p:cNvPicPr/>
          <p:nvPr/>
        </p:nvPicPr>
        <p:blipFill>
          <a:blip r:embed="rId1"/>
          <a:stretch/>
        </p:blipFill>
        <p:spPr>
          <a:xfrm>
            <a:off x="1000080" y="2143080"/>
            <a:ext cx="6500880" cy="44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edium Shot (MS)</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gure is framed from the WAIST up</a:t>
            </a:r>
            <a:endParaRPr b="0" lang="en-US" sz="2900" spc="-1" strike="noStrike">
              <a:solidFill>
                <a:srgbClr val="000000"/>
              </a:solidFill>
              <a:latin typeface="Tw Cen MT"/>
            </a:endParaRPr>
          </a:p>
        </p:txBody>
      </p:sp>
      <p:pic>
        <p:nvPicPr>
          <p:cNvPr id="379" name="Picture 2" descr="http://www.annamorphic.co.uk/machinima/images/ms2.jpg"/>
          <p:cNvPicPr/>
          <p:nvPr/>
        </p:nvPicPr>
        <p:blipFill>
          <a:blip r:embed="rId1"/>
          <a:stretch/>
        </p:blipFill>
        <p:spPr>
          <a:xfrm>
            <a:off x="1071720" y="2143080"/>
            <a:ext cx="6572160" cy="389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stablishing Shot</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wide shot giving an overview of the scene so the action and setting is shown</a:t>
            </a:r>
            <a:endParaRPr b="0" lang="en-US" sz="2900" spc="-1" strike="noStrike">
              <a:solidFill>
                <a:srgbClr val="000000"/>
              </a:solidFill>
              <a:latin typeface="Tw Cen MT"/>
            </a:endParaRPr>
          </a:p>
        </p:txBody>
      </p:sp>
      <p:pic>
        <p:nvPicPr>
          <p:cNvPr id="382" name="Picture 2" descr="http://www.filmeducation.org/theboyinthestripedpyjamas/images/stills/boys_in_berlin.jpg"/>
          <p:cNvPicPr/>
          <p:nvPr/>
        </p:nvPicPr>
        <p:blipFill>
          <a:blip r:embed="rId1"/>
          <a:stretch/>
        </p:blipFill>
        <p:spPr>
          <a:xfrm>
            <a:off x="1285920" y="2500200"/>
            <a:ext cx="6429240" cy="400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lashback</a:t>
            </a:r>
            <a:endParaRPr b="0" lang="en-US" sz="4400" spc="-1" strike="noStrike">
              <a:solidFill>
                <a:srgbClr val="775f55"/>
              </a:solidFill>
              <a:latin typeface="Tw Cen MT"/>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 return to a scene of the past</a:t>
            </a:r>
            <a:endParaRPr b="0" lang="en-US" sz="2900" spc="-1" strike="noStrike">
              <a:solidFill>
                <a:srgbClr val="000000"/>
              </a:solidFill>
              <a:latin typeface="Tw Cen MT"/>
            </a:endParaRPr>
          </a:p>
        </p:txBody>
      </p:sp>
      <p:pic>
        <p:nvPicPr>
          <p:cNvPr id="385" name="Picture 4" descr="http://hollywooddame.com/wp-content/uploads/2009/09/jessica-parker-80s-flashback-scene-for-sex-and-the-city-movie-3.jpg"/>
          <p:cNvPicPr/>
          <p:nvPr/>
        </p:nvPicPr>
        <p:blipFill>
          <a:blip r:embed="rId1"/>
          <a:stretch/>
        </p:blipFill>
        <p:spPr>
          <a:xfrm>
            <a:off x="985680" y="2214720"/>
            <a:ext cx="5776920" cy="406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1T20:12:40Z</dcterms:created>
  <dc:creator>Gould</dc:creator>
  <dc:description/>
  <dc:language>en-US</dc:language>
  <cp:lastModifiedBy>jgould</cp:lastModifiedBy>
  <dcterms:modified xsi:type="dcterms:W3CDTF">2009-11-03T04:02:46Z</dcterms:modified>
  <cp:revision>15</cp:revision>
  <dc:subject/>
  <dc:title>Film Terms &amp; Definitions</dc:title>
</cp:coreProperties>
</file>