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6B69-E38A-4E87-8B72-14173D0A39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7428-6598-4EEC-98B2-15B797C52791}" type="slidenum">
              <a:rPr b="0" lang="en-GB" sz="1200" spc="-1" strike="noStrike">
                <a:solidFill>
                  <a:srgbClr val="402000"/>
                </a:solidFill>
                <a:latin typeface="Cooper Black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EF5A-62EA-46D0-9985-6719211CBEE5}" type="slidenum">
              <a:rPr b="0" lang="en-GB" sz="1200" spc="-1" strike="noStrike">
                <a:solidFill>
                  <a:srgbClr val="402000"/>
                </a:solidFill>
                <a:latin typeface="Cooper Black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45BD-0EB1-44D6-B290-BE618089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A9C-6D35-448D-967E-A61D60F4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D926-E8EF-47C2-8285-6656322E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256-6FA5-4AB2-8C21-8FE068CA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F60C-95F7-4F26-A172-7425DC13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E0F1-8D34-4C8E-ADD3-A958C029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D490-BF15-41A5-B29F-23DC3F5B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5F22-5578-442D-851D-DD629D14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D1A3-E530-4C2C-B6AA-CECC1A40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3B37-1CA9-4951-B96B-5F42DDDA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5E2A-3AB8-4E48-B06B-FE87CB7B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8F4-2968-4AB5-9157-DDC2320E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E503-3E47-490D-ABB1-19E0AA47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04BD-D041-4ED6-9FD9-8960032D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A518-F148-4175-BC69-A2737E46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9E7B-E6C6-4A83-8B5E-38F79194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B05D-2943-49DF-8A3A-092DA9FE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C58-AF78-4E0C-A032-56A15649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05D6-211D-4E1A-9E54-BED4E7B8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683C-52B3-4BDE-8AC1-6B599E0C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2E81-8D12-4231-A2F2-B03B2E5E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67E8-1434-4254-8645-39D791AE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1B3A-F284-4D15-8E71-E2CC0D63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F4C4-D3AF-484C-BEC4-6F9FABCE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Cooper Black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Cooper Black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F181-C1C3-4A73-B92C-0D31A9F3CE3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Cooper Black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0080-894F-4A54-9C34-DC5B18DD546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dreads.com/author/show/3706.George_Orwel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Cooper Black"/>
              </a:rPr>
              <a:t>Language features </a:t>
            </a:r>
            <a:br>
              <a:rPr sz="4400"/>
            </a:br>
            <a:r>
              <a:rPr b="0" lang="en-US" sz="4400" spc="-1" strike="noStrike">
                <a:solidFill>
                  <a:srgbClr val="402000"/>
                </a:solidFill>
                <a:latin typeface="Cooper Black"/>
              </a:rPr>
              <a:t>in pros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08366"/>
                </a:solidFill>
                <a:latin typeface="Cooper Black"/>
              </a:rPr>
              <a:t>And the effect they have on the reader!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Dialogue and dialec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00080" y="1500120"/>
            <a:ext cx="777240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n author uses </a:t>
            </a: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dialogue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to give the character a voice. </a:t>
            </a: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Dialect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is a way of speaking that is unique to a particular regio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Dialect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is not just the pronunciation of words (that is accent) but it is the structure of their sentences and the words they us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Example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 shouldn’t have did that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elluva nice fella, but he ain’t bright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28440" y="499680"/>
            <a:ext cx="797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Comparisons – simile and metaphor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28440" y="1643040"/>
            <a:ext cx="80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 writer uses comparisons to give you a clearer picture of what they mea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Examples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dragging his feet a little, the way a bear drags his paws’ </a:t>
            </a:r>
            <a:r>
              <a:rPr b="1" lang="en-GB" sz="3200" spc="-1" strike="noStrike">
                <a:solidFill>
                  <a:srgbClr val="8b2222"/>
                </a:solidFill>
                <a:latin typeface="Times New Roman"/>
              </a:rPr>
              <a:t>simi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The heavy hands were a pendula’ </a:t>
            </a:r>
            <a:r>
              <a:rPr b="1" lang="en-GB" sz="3200" spc="-1" strike="noStrike">
                <a:solidFill>
                  <a:srgbClr val="8b2222"/>
                </a:solidFill>
                <a:latin typeface="Times New Roman"/>
              </a:rPr>
              <a:t>metaph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000680" y="4500720"/>
            <a:ext cx="1000080" cy="4284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929280" y="5072040"/>
            <a:ext cx="1785960" cy="42876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A writer chooses wor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90720" y="1828800"/>
            <a:ext cx="777240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e difference between the right word and the almost right word is the difference between lightning and a lightning bug.”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Mark Twain</a:t>
            </a:r>
            <a:br>
              <a:rPr sz="2000"/>
            </a:b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One day I will find the right words, and they will be simple.”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Jack Keroua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Don't tell me the moon is shining; show me the glint of light on broken glass.”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Anton Chekhov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Writers fish for the right words like fishermen fish for, um, whatever those aquatic creatures with fins and gills are called.  ”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Jarod Kintz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6-Point Star 3"/>
          <p:cNvSpPr/>
          <p:nvPr/>
        </p:nvSpPr>
        <p:spPr>
          <a:xfrm>
            <a:off x="6929280" y="285840"/>
            <a:ext cx="1643400" cy="1500120"/>
          </a:xfrm>
          <a:custGeom>
            <a:avLst/>
            <a:gdLst/>
            <a:ahLst/>
            <a:rect l="l" t="t" r="r" b="b"/>
            <a:pathLst>
              <a:path w="1643062" h="1500188">
                <a:moveTo>
                  <a:pt x="0" y="375047"/>
                </a:moveTo>
                <a:lnTo>
                  <a:pt x="547683" y="375041"/>
                </a:lnTo>
                <a:lnTo>
                  <a:pt x="821531" y="0"/>
                </a:lnTo>
                <a:lnTo>
                  <a:pt x="1095379" y="375041"/>
                </a:lnTo>
                <a:lnTo>
                  <a:pt x="1643062" y="375047"/>
                </a:lnTo>
                <a:lnTo>
                  <a:pt x="1369227" y="750094"/>
                </a:lnTo>
                <a:lnTo>
                  <a:pt x="1643062" y="1125141"/>
                </a:lnTo>
                <a:lnTo>
                  <a:pt x="1095379" y="1125147"/>
                </a:lnTo>
                <a:lnTo>
                  <a:pt x="821531" y="1500188"/>
                </a:lnTo>
                <a:lnTo>
                  <a:pt x="547683" y="1125147"/>
                </a:lnTo>
                <a:lnTo>
                  <a:pt x="0" y="1125141"/>
                </a:lnTo>
                <a:lnTo>
                  <a:pt x="273835" y="750094"/>
                </a:lnTo>
                <a:lnTo>
                  <a:pt x="0" y="375047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7286760" y="71424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Cooper Black"/>
              </a:rPr>
              <a:t>Word choice</a:t>
            </a: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pic>
        <p:nvPicPr>
          <p:cNvPr id="131" name="Picture 2" descr="C:\Documents and Settings\f.rigney\Local Settings\Temporary Internet Files\Content.IE5\UULQF683\MC900240853[1].wmf"/>
          <p:cNvPicPr/>
          <p:nvPr/>
        </p:nvPicPr>
        <p:blipFill>
          <a:blip r:embed="rId1"/>
          <a:stretch/>
        </p:blipFill>
        <p:spPr>
          <a:xfrm>
            <a:off x="0" y="5000760"/>
            <a:ext cx="2025720" cy="1857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The writer’s craf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riting a book is a horrible, exhausting struggle, like a long bout with some painful illness. One would never undertake such a thing if one were not driven on by some demon whom one can neither resist nor understand.”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George Orwell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Always be a poet, even in prose.” </a:t>
            </a:r>
            <a:br>
              <a:rPr sz="3200"/>
            </a:b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harles Baudelair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00080" y="1642680"/>
            <a:ext cx="77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Remember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: A writer does nothing by accident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hen studying prose (e.g. a novel) you must look at how the writer </a:t>
            </a:r>
            <a:r>
              <a:rPr b="0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crafted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his novel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Ask yourself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hat features of language has he/she used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hat effect do these features have on the reader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ow do these features help to convey meaning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Cooper Black"/>
              </a:rPr>
              <a:t>We look for the following: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71400" y="1856880"/>
            <a:ext cx="607212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adverb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adjectiv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use of colour to describ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metaphor and simi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dialogue and dialec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verb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imager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The road to hell is paved with adverbs.” </a:t>
            </a:r>
            <a:br>
              <a:rPr sz="3200"/>
            </a:b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Stephen King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n adverb describes the action taken (verb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Examples</a:t>
            </a:r>
            <a:r>
              <a:rPr b="0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seamstress quickly made the mourning cloth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boldly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poken words would return to haunt the rebel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midwives waited patiently through a long labour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you highlight the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adverbs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Right Arrow 3"/>
          <p:cNvSpPr/>
          <p:nvPr/>
        </p:nvSpPr>
        <p:spPr>
          <a:xfrm>
            <a:off x="1071720" y="5357880"/>
            <a:ext cx="785520" cy="4284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Adjectives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000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n adjective is a word that describes a nou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Example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 little stocky man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 tattered dictionary and a mauled copy of the California civil code.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Can you highlight the adjectives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Right Arrow 3"/>
          <p:cNvSpPr/>
          <p:nvPr/>
        </p:nvSpPr>
        <p:spPr>
          <a:xfrm>
            <a:off x="142920" y="5500800"/>
            <a:ext cx="1214280" cy="85716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ebadad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14200" y="57150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Cooper Black"/>
              </a:rPr>
              <a:t>Task</a:t>
            </a: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Use of colou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00080" y="16430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The use of colour in descriptions adds more depth. It helps you to picture what the writer is talking about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Example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Red and blue and green rabbits, Lennie.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rouged cheeks and reddened lips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ow does the use of colour add to your understanding of the text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Right Arrow 3"/>
          <p:cNvSpPr/>
          <p:nvPr/>
        </p:nvSpPr>
        <p:spPr>
          <a:xfrm>
            <a:off x="285840" y="5429160"/>
            <a:ext cx="1143000" cy="100008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ebadad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285840" y="57862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Cooper Black"/>
              </a:rPr>
              <a:t>?????</a:t>
            </a: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Alliter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99720" y="1714320"/>
            <a:ext cx="77151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Like in poetry, alliteration means the repetition of the initial letter. Why does a writer do this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b2222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8b2222"/>
                </a:solidFill>
                <a:latin typeface="Times New Roman"/>
              </a:rPr>
              <a:t>makes it more poetic, catches your attention, adds interesting descrip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Examples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harp, strong features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eavy hands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loping shoulders were bent forward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Verb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28440" y="1500120"/>
            <a:ext cx="80103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 verb is a ‘doing’ word; it is an action taken by a character. The author chooses variations of a word to create meaning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Example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stead of ‘said’: </a:t>
            </a:r>
            <a:r>
              <a:rPr b="1" lang="en-GB" sz="2600" spc="-1" strike="noStrike">
                <a:solidFill>
                  <a:srgbClr val="ede879"/>
                </a:solidFill>
                <a:latin typeface="Times New Roman"/>
              </a:rPr>
              <a:t>whispered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en-GB" sz="2600" spc="-1" strike="noStrike">
                <a:solidFill>
                  <a:srgbClr val="ff8f20"/>
                </a:solidFill>
                <a:latin typeface="Times New Roman"/>
              </a:rPr>
              <a:t>yelled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0" lang="en-GB" sz="2600" spc="-1" strike="noStrike">
                <a:solidFill>
                  <a:srgbClr val="8b2222"/>
                </a:solidFill>
                <a:latin typeface="Times New Roman"/>
              </a:rPr>
              <a:t>exclaimed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en-GB" sz="2600" spc="-1" strike="noStrike">
                <a:solidFill>
                  <a:srgbClr val="734d26"/>
                </a:solidFill>
                <a:latin typeface="Times New Roman"/>
              </a:rPr>
              <a:t>cri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stead of ‘pointed to’: </a:t>
            </a:r>
            <a:r>
              <a:rPr b="0" lang="en-GB" sz="2600" spc="-1" strike="noStrike">
                <a:solidFill>
                  <a:srgbClr val="0070c0"/>
                </a:solidFill>
                <a:latin typeface="Times New Roman"/>
              </a:rPr>
              <a:t>motioned towards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0" lang="en-GB" sz="2600" spc="-1" strike="noStrike">
                <a:solidFill>
                  <a:srgbClr val="00b0f0"/>
                </a:solidFill>
                <a:latin typeface="Times New Roman"/>
              </a:rPr>
              <a:t>indicat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stead of ‘had’ (belonging): </a:t>
            </a:r>
            <a:r>
              <a:rPr b="0" lang="en-GB" sz="2600" spc="-1" strike="noStrike">
                <a:solidFill>
                  <a:srgbClr val="00b050"/>
                </a:solidFill>
                <a:latin typeface="Times New Roman"/>
              </a:rPr>
              <a:t>possessed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en-GB" sz="2600" spc="-1" strike="noStrike">
                <a:solidFill>
                  <a:srgbClr val="92d050"/>
                </a:solidFill>
                <a:latin typeface="Times New Roman"/>
              </a:rPr>
              <a:t>own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Why are these words better? Why does the author choose these instead? What effect do they have on the reader?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Right Arrow 3"/>
          <p:cNvSpPr/>
          <p:nvPr/>
        </p:nvSpPr>
        <p:spPr>
          <a:xfrm>
            <a:off x="0" y="5143680"/>
            <a:ext cx="1500120" cy="142848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ebadad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0" y="557208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Cooper Black"/>
              </a:rPr>
              <a:t>Ask yourself</a:t>
            </a: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3:24:14Z</dcterms:created>
  <dc:creator>TEACHER</dc:creator>
  <dc:description/>
  <dc:language>en-US</dc:language>
  <cp:lastModifiedBy>Sally</cp:lastModifiedBy>
  <dcterms:modified xsi:type="dcterms:W3CDTF">2014-03-02T05:02:30Z</dcterms:modified>
  <cp:revision>46</cp:revision>
  <dc:subject/>
  <dc:title>A and A*s Group</dc:title>
</cp:coreProperties>
</file>