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DE77-192C-4318-8D7A-A9EEA520C6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7768-BE9E-4748-917A-DD42490395C7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3322-9B53-47F1-9E8B-435E55884FC1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294-EFC4-4031-949C-60CE1021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3C6-3A5E-4074-A413-C31AF579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F7D-B258-49B5-A27B-0D271CEE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A9A-F3D9-44B1-A9BB-F6F5B603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4A2E-F952-4E49-8728-E61EEC0D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16DD-D783-48EA-AF10-71019C41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7AE9-1217-4CCC-91B2-0F16878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9643-8706-4191-827F-EB43929B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BDDD-64CB-4018-8281-78A8C3BB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9ADC-7D1A-4DB8-9BA6-C48C00B2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8774-D52C-4866-ADBC-DE2F608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D4E-2A8A-44F5-9C6A-E546405B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349F-E6E8-46FA-B239-2FAA2A1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EF0D-98D3-46A7-B4CA-3FBC2620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C000-557E-48D9-A01C-769E9E9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7291-D400-467B-950C-556FC392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BB45-3E11-4FA4-907F-D3B242F0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BD9-6E38-4B30-AC18-4114E510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33B-1F38-47E1-BFF6-83B220A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59A-7E72-4444-ADCB-13713F69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D01-AFBD-4E11-B292-8C4A8930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5D8-E38D-40C7-98FA-0C1FEDF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061-AA5E-4145-B59D-A140CE3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7DB-A221-4311-927C-673A0DE7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48A-2F90-42FE-80F6-8B2C7CC69D5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B4A4-67A7-4E77-9757-B29544431D0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3706.George_Orwel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Language features </a:t>
            </a: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in pro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Cooper Black"/>
              </a:rPr>
              <a:t>And the effect they have on the reader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ialogue and dial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00080" y="150012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n author uses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ogu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to give the character a voice.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a way of speaking that is unique to a particular reg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not just the pronunciation of words (that is accent) but it is the structure of their sentences and the words they u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shouldn’t have did tha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lluva nice fella, but he ain’t brigh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9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Comparisons – simile and metapho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2844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 writer uses comparisons to give you a clearer picture of what they me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ragging his feet a little, the way a bear drags his paws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heavy hands were a pendula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metaph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000680" y="4500720"/>
            <a:ext cx="1000080" cy="428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29280" y="5072040"/>
            <a:ext cx="1785960" cy="42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 writer chooses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82880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difference between the right word and the almost right word is the difference between lightning and a lightning bug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Mark Twain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ne day I will find the right words, and they will be simple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ck Keroua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n't tell me the moon is shining; show me the glint of light on broken glass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Anton Chekho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riters fish for the right words like fishermen fish for, um, whatever those aquatic creatures with fins and gills are called.  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rod Kintz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6-Point Star 3"/>
          <p:cNvSpPr/>
          <p:nvPr/>
        </p:nvSpPr>
        <p:spPr>
          <a:xfrm>
            <a:off x="6929280" y="285840"/>
            <a:ext cx="1643400" cy="1500120"/>
          </a:xfrm>
          <a:custGeom>
            <a:avLst/>
            <a:gdLst/>
            <a:ahLst/>
            <a:rect l="l" t="t" r="r" b="b"/>
            <a:pathLst>
              <a:path w="1643062" h="1500188">
                <a:moveTo>
                  <a:pt x="0" y="375047"/>
                </a:moveTo>
                <a:lnTo>
                  <a:pt x="547683" y="375041"/>
                </a:lnTo>
                <a:lnTo>
                  <a:pt x="821531" y="0"/>
                </a:lnTo>
                <a:lnTo>
                  <a:pt x="1095379" y="375041"/>
                </a:lnTo>
                <a:lnTo>
                  <a:pt x="1643062" y="375047"/>
                </a:lnTo>
                <a:lnTo>
                  <a:pt x="1369227" y="750094"/>
                </a:lnTo>
                <a:lnTo>
                  <a:pt x="1643062" y="1125141"/>
                </a:lnTo>
                <a:lnTo>
                  <a:pt x="1095379" y="1125147"/>
                </a:lnTo>
                <a:lnTo>
                  <a:pt x="821531" y="1500188"/>
                </a:lnTo>
                <a:lnTo>
                  <a:pt x="547683" y="1125147"/>
                </a:lnTo>
                <a:lnTo>
                  <a:pt x="0" y="1125141"/>
                </a:lnTo>
                <a:lnTo>
                  <a:pt x="273835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286760" y="714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Word choice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pic>
        <p:nvPicPr>
          <p:cNvPr id="131" name="Picture 2" descr="C:\Documents and Settings\f.rigney\Local Settings\Temporary Internet Files\Content.IE5\UULQF683\MC900240853[1].wmf"/>
          <p:cNvPicPr/>
          <p:nvPr/>
        </p:nvPicPr>
        <p:blipFill>
          <a:blip r:embed="rId1"/>
          <a:stretch/>
        </p:blipFill>
        <p:spPr>
          <a:xfrm>
            <a:off x="0" y="5000760"/>
            <a:ext cx="2025720" cy="1857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writer’s cra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ing a book is a horrible, exhausting struggle, like a long bout with some painful illness. One would never undertake such a thing if one were not driven on by some demon whom one can neither resist nor understand.”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George Orwel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lways be a poet, even in prose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harles Baudelair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00080" y="1642680"/>
            <a:ext cx="77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Rememb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 A writer does nothing by accid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en studying prose (e.g. a novel) you must look at how the writer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crafted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his novel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Ask yourself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features of language has he/she use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effect do these features have on the reade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 these features help to convey mean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oper Black"/>
              </a:rPr>
              <a:t>We look for the following: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6072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jec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use of colour to describ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metaphor and 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dialogue and dial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image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The road to hell is paved with adverbs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tephen King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verb describes the action taken (verb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seamstress quickly made the mourning clot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boldly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oken words would return to haunt the rebe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midwives waited patiently through a long labou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you highlight the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dverb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Right Arrow 3"/>
          <p:cNvSpPr/>
          <p:nvPr/>
        </p:nvSpPr>
        <p:spPr>
          <a:xfrm>
            <a:off x="1071720" y="5357880"/>
            <a:ext cx="785520" cy="428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djectives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jective is a word that describes a nou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little stocky man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tattered dictionary and a mauled copy of the California civil cod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an you highlight the adjectiv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Right Arrow 3"/>
          <p:cNvSpPr/>
          <p:nvPr/>
        </p:nvSpPr>
        <p:spPr>
          <a:xfrm>
            <a:off x="142920" y="5500800"/>
            <a:ext cx="1214280" cy="8571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5715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Task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 of colou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0080" y="1643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he use of colour in descriptions adds more depth. It helps you to picture what the writer is talking abou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d and blue and green rabbits, Lenni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ouged cheeks and reddened lip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es the use of colour add to your understanding of the tex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Right Arrow 3"/>
          <p:cNvSpPr/>
          <p:nvPr/>
        </p:nvSpPr>
        <p:spPr>
          <a:xfrm>
            <a:off x="285840" y="5429160"/>
            <a:ext cx="1143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85840" y="57862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?????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1714320"/>
            <a:ext cx="7715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ike in poetry, alliteration means the repetition of the initial letter. Why does a writer do thi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makes it more poetic, catches your attention, adds interesting descrip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harp, strong feature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avy hand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loping shoulders were bent forward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Verb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8440" y="1500120"/>
            <a:ext cx="801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verb is a ‘doing’ word; it is an action taken by a character. The author chooses variations of a word to create mean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said’: </a:t>
            </a:r>
            <a:r>
              <a:rPr b="1" lang="en-GB" sz="2600" spc="-1" strike="noStrike">
                <a:solidFill>
                  <a:srgbClr val="ede879"/>
                </a:solidFill>
                <a:latin typeface="Times New Roman"/>
              </a:rPr>
              <a:t>whisper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ff8f20"/>
                </a:solidFill>
                <a:latin typeface="Times New Roman"/>
              </a:rPr>
              <a:t>yell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8b2222"/>
                </a:solidFill>
                <a:latin typeface="Times New Roman"/>
              </a:rPr>
              <a:t>exclaim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734d26"/>
                </a:solidFill>
                <a:latin typeface="Times New Roman"/>
              </a:rPr>
              <a:t>cri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pointed to’: </a:t>
            </a:r>
            <a:r>
              <a:rPr b="0" lang="en-GB" sz="2600" spc="-1" strike="noStrike">
                <a:solidFill>
                  <a:srgbClr val="0070c0"/>
                </a:solidFill>
                <a:latin typeface="Times New Roman"/>
              </a:rPr>
              <a:t>motioned towards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00b0f0"/>
                </a:solidFill>
                <a:latin typeface="Times New Roman"/>
              </a:rPr>
              <a:t>indicat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had’ (belonging):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</a:rPr>
              <a:t>possess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92d050"/>
                </a:solidFill>
                <a:latin typeface="Times New Roman"/>
              </a:rPr>
              <a:t>own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Why are these words better? Why does the author choose these instead? What effect do they have on the reader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0" y="514368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0" y="5572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Ask yourself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24:14Z</dcterms:created>
  <dc:creator>TEACHER</dc:creator>
  <dc:description/>
  <dc:language>en-US</dc:language>
  <cp:lastModifiedBy>Sally</cp:lastModifiedBy>
  <dcterms:modified xsi:type="dcterms:W3CDTF">2014-03-02T05:02:30Z</dcterms:modified>
  <cp:revision>46</cp:revision>
  <dc:subject/>
  <dc:title>A and A*s Group</dc:title>
</cp:coreProperties>
</file>