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A06-471E-4CA7-9B2F-7B3ACEBCF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6F4-340C-4B59-845E-EABBCFBEF90B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E18-9BC0-4D6F-8374-40FD8C7D05CF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CF8-A2F1-42F9-B415-A003E114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FD6-584F-430B-901F-04B2238A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38B-60E3-443D-ABAE-0167102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5B8-D8D4-4E0D-BB7F-D667E35F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BEB-B91B-41C6-B110-4546DAF5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D98-3C9F-4434-999D-9718ACB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3B81-686E-4A76-8639-4DACA01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3132-31F3-45F6-A1C8-E9E5B8D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058-0676-4BB6-8081-EE75577D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2160-67ED-4BC5-B0A8-CE85DAA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CFDA-5C17-475C-8532-14BB35B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80D-5BA0-4080-972E-4F164C26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D57C-95CC-4873-85D3-A4C0C51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7A1E-0AE7-416D-8170-EB464F6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C205-02EF-4E1C-B213-68C34759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FCB4-FFB0-440C-A382-EEDD0F78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B053-541B-486A-84E7-29F5942A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987-6251-4CC9-BACF-8269DF88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6B4-88DA-4708-9CF6-065B20D7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742-4A23-48D5-9D78-08C717AA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6A7-8660-4520-A4DE-8B550114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EA1-6D00-4AAA-AD19-C05A532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67D-0C18-4735-8733-9923EA4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2AA-3842-4B1F-9FFA-049D493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60BD-382B-427F-882A-04C5DFB53F5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6931-8504-4572-802B-3E6C2E2C919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3706.George_Orwel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Language features </a:t>
            </a: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in pro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Cooper Black"/>
              </a:rPr>
              <a:t>And the effect they have on the reader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alogue and dial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00080" y="150012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n author uses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ogu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to give the character a voice.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a way of speaking that is unique to a particular reg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not just the pronunciation of words (that is accent) but it is the structure of their sentences and the words they u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shouldn’t have did tha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lluva nice fella, but he ain’t brigh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Comparisons – simile and metapho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2844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 writer uses comparisons to give you a clearer picture of what they m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ragging his feet a little, the way a bear drags his paws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heavy hands were a pendula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metaph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000680" y="4500720"/>
            <a:ext cx="1000080" cy="428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29280" y="5072040"/>
            <a:ext cx="1785960" cy="42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 writer chooses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82880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difference between the right word and the almost right word is the difference between lightning and a lightning bug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Mark Twai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ne day I will find the right words, and they will be simple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ck Kerou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n't tell me the moon is shining; show me the glint of light on broken glass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Anton Chekho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riters fish for the right words like fishermen fish for, um, whatever those aquatic creatures with fins and gills are called.  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rod Kint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6-Point Star 3"/>
          <p:cNvSpPr/>
          <p:nvPr/>
        </p:nvSpPr>
        <p:spPr>
          <a:xfrm>
            <a:off x="6929280" y="285840"/>
            <a:ext cx="1643400" cy="1500120"/>
          </a:xfrm>
          <a:custGeom>
            <a:avLst/>
            <a:gdLst/>
            <a:ahLst/>
            <a:rect l="l" t="t" r="r" b="b"/>
            <a:pathLst>
              <a:path w="1643062" h="1500188">
                <a:moveTo>
                  <a:pt x="0" y="375047"/>
                </a:moveTo>
                <a:lnTo>
                  <a:pt x="547683" y="375041"/>
                </a:lnTo>
                <a:lnTo>
                  <a:pt x="821531" y="0"/>
                </a:lnTo>
                <a:lnTo>
                  <a:pt x="1095379" y="375041"/>
                </a:lnTo>
                <a:lnTo>
                  <a:pt x="1643062" y="375047"/>
                </a:lnTo>
                <a:lnTo>
                  <a:pt x="1369227" y="750094"/>
                </a:lnTo>
                <a:lnTo>
                  <a:pt x="1643062" y="1125141"/>
                </a:lnTo>
                <a:lnTo>
                  <a:pt x="1095379" y="1125147"/>
                </a:lnTo>
                <a:lnTo>
                  <a:pt x="821531" y="1500188"/>
                </a:lnTo>
                <a:lnTo>
                  <a:pt x="547683" y="1125147"/>
                </a:lnTo>
                <a:lnTo>
                  <a:pt x="0" y="1125141"/>
                </a:lnTo>
                <a:lnTo>
                  <a:pt x="273835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286760" y="714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Word choice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pic>
        <p:nvPicPr>
          <p:cNvPr id="131" name="Picture 2" descr="C:\Documents and Settings\f.rigney\Local Settings\Temporary Internet Files\Content.IE5\UULQF683\MC900240853[1].wmf"/>
          <p:cNvPicPr/>
          <p:nvPr/>
        </p:nvPicPr>
        <p:blipFill>
          <a:blip r:embed="rId1"/>
          <a:stretch/>
        </p:blipFill>
        <p:spPr>
          <a:xfrm>
            <a:off x="0" y="5000760"/>
            <a:ext cx="2025720" cy="1857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writer’s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ing a book is a horrible, exhausting struggle, like a long bout with some painful illness. One would never undertake such a thing if one were not driven on by some demon whom one can neither resist nor understand.”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George Orwel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lways be a poet, even in prose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harles Baudelair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0080" y="1642680"/>
            <a:ext cx="77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Rememb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 A writer does nothing by accid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en studying prose (e.g. a novel) you must look at how the writer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crafted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his novel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Ask yourself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features of language has he/she use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effect do these features have on the reade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 these features help to convey mean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oper Black"/>
              </a:rPr>
              <a:t>We look for the following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6072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jec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use of colour to describ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metaphor and 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dialogue and dial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image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The road to hell is paved with adverbs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tephen Kin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verb describes the action taken (ver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seamstress quickly made the mourning clot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boldly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oken words would return to haunt the rebe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midwives waited patiently through a long labou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you highlight th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dverb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Right Arrow 3"/>
          <p:cNvSpPr/>
          <p:nvPr/>
        </p:nvSpPr>
        <p:spPr>
          <a:xfrm>
            <a:off x="1071720" y="535788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djective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jective is a word that describes a nou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little stocky man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tattered dictionary and a mauled copy of the California civil cod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an you highlight the adjectiv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Right Arrow 3"/>
          <p:cNvSpPr/>
          <p:nvPr/>
        </p:nvSpPr>
        <p:spPr>
          <a:xfrm>
            <a:off x="142920" y="5500800"/>
            <a:ext cx="1214280" cy="8571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5715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Task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 of col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0080" y="1643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he use of colour in descriptions adds more depth. It helps you to picture what the writer is talking abou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d and blue and green rabbits, Lenni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ouged cheeks and reddened lip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es the use of colour add to your understanding of the tex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ight Arrow 3"/>
          <p:cNvSpPr/>
          <p:nvPr/>
        </p:nvSpPr>
        <p:spPr>
          <a:xfrm>
            <a:off x="285840" y="5429160"/>
            <a:ext cx="1143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85840" y="57862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?????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1714320"/>
            <a:ext cx="7715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ke in poetry, alliteration means the repetition of the initial letter. Why does a writer do thi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makes it more poetic, catches your attention, adds interesting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arp, strong feature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avy hand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loping shoulders were bent forward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500120"/>
            <a:ext cx="801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verb is a ‘doing’ word; it is an action taken by a character. The author chooses variations of a word to create mean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said’: </a:t>
            </a:r>
            <a:r>
              <a:rPr b="1" lang="en-GB" sz="2600" spc="-1" strike="noStrike">
                <a:solidFill>
                  <a:srgbClr val="ede879"/>
                </a:solidFill>
                <a:latin typeface="Times New Roman"/>
              </a:rPr>
              <a:t>whisper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ff8f20"/>
                </a:solidFill>
                <a:latin typeface="Times New Roman"/>
              </a:rPr>
              <a:t>yell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8b2222"/>
                </a:solidFill>
                <a:latin typeface="Times New Roman"/>
              </a:rPr>
              <a:t>exclaim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734d26"/>
                </a:solidFill>
                <a:latin typeface="Times New Roman"/>
              </a:rPr>
              <a:t>cri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pointed to’: </a:t>
            </a:r>
            <a:r>
              <a:rPr b="0" lang="en-GB" sz="2600" spc="-1" strike="noStrike">
                <a:solidFill>
                  <a:srgbClr val="0070c0"/>
                </a:solidFill>
                <a:latin typeface="Times New Roman"/>
              </a:rPr>
              <a:t>motioned towards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00b0f0"/>
                </a:solidFill>
                <a:latin typeface="Times New Roman"/>
              </a:rPr>
              <a:t>indicat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had’ (belonging):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</a:rPr>
              <a:t>possess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92d050"/>
                </a:solidFill>
                <a:latin typeface="Times New Roman"/>
              </a:rPr>
              <a:t>own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Why are these words better? Why does the author choose these instead? What effect do they have on the reader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0" y="514368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0" y="5572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Ask yourself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24:14Z</dcterms:created>
  <dc:creator>TEACHER</dc:creator>
  <dc:description/>
  <dc:language>en-US</dc:language>
  <cp:lastModifiedBy>Sally</cp:lastModifiedBy>
  <dcterms:modified xsi:type="dcterms:W3CDTF">2014-03-02T05:02:30Z</dcterms:modified>
  <cp:revision>46</cp:revision>
  <dc:subject/>
  <dc:title>A and A*s Group</dc:title>
</cp:coreProperties>
</file>