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A98B-06D8-49DD-AEFF-F32C9B1C81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E85D-875A-4A20-952F-732C1EC49F3D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379-A5EB-488E-B22A-61C95B5CAAAE}" type="slidenum">
              <a:rPr b="0" lang="en-GB" sz="1200" spc="-1" strike="noStrike">
                <a:solidFill>
                  <a:srgbClr val="402000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70F-031A-42F1-832D-5624ACC6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24B-C859-4A9F-8761-4B8D4C7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5F4-E62B-40E4-B08C-019A794E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105-10B2-488B-9F6E-35AAE83A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7384-4ADD-4E75-BAC2-32B48668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F7D6-833B-4B57-B21C-7086516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9F2B-1E4B-4807-B6B6-7A5FACE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6819-355D-4033-89BD-35EC5F4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668C-242F-48EA-842A-DD1735A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EA6F-84F1-4368-A5A2-7C12029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7D4-5791-414B-AE29-46267DAC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A04-5041-4858-BE66-67243F6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1D2E-4DBD-454A-9462-A47E8CC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0D23-15E4-4970-82FF-EB89E7F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E11-9908-44A4-80D2-DD1F57D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C1F-152E-4203-87BB-6FD9D49B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700-5A08-4412-9C68-6B7B6205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B50-9FAC-476B-ACD2-17C5856E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5B3-ACF9-407D-87CE-D2C2E55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9B6-9DD4-433C-A1D0-678D142F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934-2160-40BC-BF33-06EFAEE4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2B3-C0C6-4ACF-8822-5482BF8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36C-FB58-42F2-A028-5150702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319-D81E-4851-BB63-2D68905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F509-49C3-4370-BE1F-90A2F9C4C9C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Cooper Black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83D-E363-4EBE-B034-8A1E9133A43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3706.George_Orwel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Language features </a:t>
            </a: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Cooper Black"/>
              </a:rPr>
              <a:t>in pro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Cooper Black"/>
              </a:rPr>
              <a:t>And the effect they have on the reader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alogue and dial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00080" y="150012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n author uses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ogu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to give the character a voice.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a way of speaking that is unique to a particular reg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ialec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is not just the pronunciation of words (that is accent) but it is the structure of their sentences and the words they u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shouldn’t have did tha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lluva nice fella, but he ain’t bright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9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Comparisons – simile and metapho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2844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 writer uses comparisons to give you a clearer picture of what they m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ragging his feet a little, the way a bear drags his paws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heavy hands were a pendula’ </a:t>
            </a:r>
            <a:r>
              <a:rPr b="1" lang="en-GB" sz="3200" spc="-1" strike="noStrike">
                <a:solidFill>
                  <a:srgbClr val="8b2222"/>
                </a:solidFill>
                <a:latin typeface="Times New Roman"/>
              </a:rPr>
              <a:t>metaph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000680" y="4500720"/>
            <a:ext cx="1000080" cy="428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29280" y="5072040"/>
            <a:ext cx="1785960" cy="42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 writer chooses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828800"/>
            <a:ext cx="77724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difference between the right word and the almost right word is the difference between lightning and a lightning bug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Mark Twai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ne day I will find the right words, and they will be simple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ck Keroua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n't tell me the moon is shining; show me the glint of light on broken glass.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Anton Chekho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riters fish for the right words like fishermen fish for, um, whatever those aquatic creatures with fins and gills are called.  ”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Jarod Kint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6-Point Star 3"/>
          <p:cNvSpPr/>
          <p:nvPr/>
        </p:nvSpPr>
        <p:spPr>
          <a:xfrm>
            <a:off x="6929280" y="285840"/>
            <a:ext cx="1643400" cy="1500120"/>
          </a:xfrm>
          <a:custGeom>
            <a:avLst/>
            <a:gdLst/>
            <a:ahLst/>
            <a:rect l="l" t="t" r="r" b="b"/>
            <a:pathLst>
              <a:path w="1643062" h="1500188">
                <a:moveTo>
                  <a:pt x="0" y="375047"/>
                </a:moveTo>
                <a:lnTo>
                  <a:pt x="547683" y="375041"/>
                </a:lnTo>
                <a:lnTo>
                  <a:pt x="821531" y="0"/>
                </a:lnTo>
                <a:lnTo>
                  <a:pt x="1095379" y="375041"/>
                </a:lnTo>
                <a:lnTo>
                  <a:pt x="1643062" y="375047"/>
                </a:lnTo>
                <a:lnTo>
                  <a:pt x="1369227" y="750094"/>
                </a:lnTo>
                <a:lnTo>
                  <a:pt x="1643062" y="1125141"/>
                </a:lnTo>
                <a:lnTo>
                  <a:pt x="1095379" y="1125147"/>
                </a:lnTo>
                <a:lnTo>
                  <a:pt x="821531" y="1500188"/>
                </a:lnTo>
                <a:lnTo>
                  <a:pt x="547683" y="1125147"/>
                </a:lnTo>
                <a:lnTo>
                  <a:pt x="0" y="1125141"/>
                </a:lnTo>
                <a:lnTo>
                  <a:pt x="273835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7286760" y="714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Word choice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pic>
        <p:nvPicPr>
          <p:cNvPr id="131" name="Picture 2" descr="C:\Documents and Settings\f.rigney\Local Settings\Temporary Internet Files\Content.IE5\UULQF683\MC900240853[1].wmf"/>
          <p:cNvPicPr/>
          <p:nvPr/>
        </p:nvPicPr>
        <p:blipFill>
          <a:blip r:embed="rId1"/>
          <a:stretch/>
        </p:blipFill>
        <p:spPr>
          <a:xfrm>
            <a:off x="0" y="5000760"/>
            <a:ext cx="2025720" cy="1857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writer’s cra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ing a book is a horrible, exhausting struggle, like a long bout with some painful illness. One would never undertake such a thing if one were not driven on by some demon whom one can neither resist nor understand.”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George Orwel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lways be a poet, even in prose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harles Baudelair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0080" y="1642680"/>
            <a:ext cx="77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Remember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 A writer does nothing by accide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en studying prose (e.g. a novel) you must look at how the writer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crafted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his novel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Ask yourself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features of language has he/she use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effect do these features have on the reade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 these features help to convey mean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oper Black"/>
              </a:rPr>
              <a:t>We look for the following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6072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adjec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use of colour to describ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metaphor and simi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dialogue and dial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ver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oper Black"/>
              </a:rPr>
              <a:t>image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The road to hell is paved with adverbs.”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tephen Kin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verb describes the action taken (ver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seamstress quickly made the mourning clot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boldly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oken words would return to haunt the rebe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midwives waited patiently through a long labou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you highlight th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dverb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Right Arrow 3"/>
          <p:cNvSpPr/>
          <p:nvPr/>
        </p:nvSpPr>
        <p:spPr>
          <a:xfrm>
            <a:off x="1071720" y="5357880"/>
            <a:ext cx="785520" cy="428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djectives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adjective is a word that describes a nou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little stocky man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tattered dictionary and a mauled copy of the California civil cod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an you highlight the adjectiv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Right Arrow 3"/>
          <p:cNvSpPr/>
          <p:nvPr/>
        </p:nvSpPr>
        <p:spPr>
          <a:xfrm>
            <a:off x="142920" y="5500800"/>
            <a:ext cx="1214280" cy="8571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5715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Task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 of col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0080" y="1643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he use of colour in descriptions adds more depth. It helps you to picture what the writer is talking abou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d and blue and green rabbits, Lennie.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ouged cheeks and reddened lip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does the use of colour add to your understanding of the tex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Right Arrow 3"/>
          <p:cNvSpPr/>
          <p:nvPr/>
        </p:nvSpPr>
        <p:spPr>
          <a:xfrm>
            <a:off x="285840" y="5429160"/>
            <a:ext cx="1143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85840" y="57862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?????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1714320"/>
            <a:ext cx="7715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ke in poetry, alliteration means the repetition of the initial letter. Why does a writer do thi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8b2222"/>
                </a:solidFill>
                <a:latin typeface="Times New Roman"/>
              </a:rPr>
              <a:t>makes it more poetic, catches your attention, adds interesting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02000"/>
                </a:solidFill>
                <a:uFillTx/>
                <a:latin typeface="Times New Roman"/>
              </a:rPr>
              <a:t>Examples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arp, strong feature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eavy hands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loping shoulders were bent forward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8440" y="1500120"/>
            <a:ext cx="801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verb is a ‘doing’ word; it is an action taken by a character. The author chooses variations of a word to create meanin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Exampl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said’: </a:t>
            </a:r>
            <a:r>
              <a:rPr b="1" lang="en-GB" sz="2600" spc="-1" strike="noStrike">
                <a:solidFill>
                  <a:srgbClr val="ede879"/>
                </a:solidFill>
                <a:latin typeface="Times New Roman"/>
              </a:rPr>
              <a:t>whisper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ff8f20"/>
                </a:solidFill>
                <a:latin typeface="Times New Roman"/>
              </a:rPr>
              <a:t>yell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8b2222"/>
                </a:solidFill>
                <a:latin typeface="Times New Roman"/>
              </a:rPr>
              <a:t>exclaim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734d26"/>
                </a:solidFill>
                <a:latin typeface="Times New Roman"/>
              </a:rPr>
              <a:t>cri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pointed to’: </a:t>
            </a:r>
            <a:r>
              <a:rPr b="0" lang="en-GB" sz="2600" spc="-1" strike="noStrike">
                <a:solidFill>
                  <a:srgbClr val="0070c0"/>
                </a:solidFill>
                <a:latin typeface="Times New Roman"/>
              </a:rPr>
              <a:t>motioned towards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600" spc="-1" strike="noStrike">
                <a:solidFill>
                  <a:srgbClr val="00b0f0"/>
                </a:solidFill>
                <a:latin typeface="Times New Roman"/>
              </a:rPr>
              <a:t>indicat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stead of ‘had’ (belonging):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</a:rPr>
              <a:t>possessed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en-GB" sz="2600" spc="-1" strike="noStrike">
                <a:solidFill>
                  <a:srgbClr val="92d050"/>
                </a:solidFill>
                <a:latin typeface="Times New Roman"/>
              </a:rPr>
              <a:t>own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Why are these words better? Why does the author choose these instead? What effect do they have on the reader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0" y="514368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badad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0" y="5572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Cooper Black"/>
              </a:rPr>
              <a:t>Ask yourself</a:t>
            </a:r>
            <a:endParaRPr b="0" lang="en-US" sz="1800" spc="-1" strike="noStrike">
              <a:solidFill>
                <a:srgbClr val="402000"/>
              </a:solidFill>
              <a:latin typeface="Cooper Black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24:14Z</dcterms:created>
  <dc:creator>TEACHER</dc:creator>
  <dc:description/>
  <dc:language>en-US</dc:language>
  <cp:lastModifiedBy>Sally</cp:lastModifiedBy>
  <dcterms:modified xsi:type="dcterms:W3CDTF">2014-03-02T05:02:30Z</dcterms:modified>
  <cp:revision>46</cp:revision>
  <dc:subject/>
  <dc:title>A and A*s Group</dc:title>
</cp:coreProperties>
</file>