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DD9B-57EF-43D3-B93B-F1ECE33010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BF60-67A8-4713-A4C5-BF44ED2DAC11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E744-52F3-48A9-8CF9-7C69694D2BA8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9E7-4DAE-4DA2-BEF0-A8ED643D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F69-461F-417E-B84A-B5D1E8E4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7CA-10DE-4120-AF1B-7EF9618F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AF0-312C-44F0-B0E8-3E513727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7C11-6399-4D5D-A8DE-368F2724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4B67-9509-4718-8AE1-AA3DD753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7350-C445-4C73-9287-A651994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4B3-0005-4080-9857-6A50034A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75F7-75E8-467F-AB10-9239E2CF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912D-13E2-4F02-B6AB-5E523514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1160-DD7A-4EA3-B295-91C2410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04D-C742-405D-B47D-E50A53CF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425F-BB0B-46C6-BBD3-CE07ABC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A028-A553-4A26-B66C-CCF31F2C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59BE-8389-4FDC-9501-96A4A065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FC41-6F60-4D52-9F08-1A7D2A03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36A3-919B-4530-B18A-A27FCC40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540-9202-4745-B282-6FCBE234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499-B406-4C72-9B2F-F6B5A4D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58E-4B5A-4FF6-AE37-2BD34AEE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A45-EBF8-4F84-8B3A-49175F3B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281-72B9-4740-B227-51C785CD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ABF-2E33-4538-B4A6-03B0E790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026-FE45-474B-9BD3-12246B9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F859-7405-42F4-8808-D6B02799C1F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48C3-6BD2-47FC-8C54-92707A208EE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dreads.com/author/show/3706.George_Orwel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Language features </a:t>
            </a: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in pro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Cooper Black"/>
              </a:rPr>
              <a:t>And the effect they have on the reader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ialogue and diale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00080" y="150012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n author uses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ogu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to give the character a voice.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a way of speaking that is unique to a particular reg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not just the pronunciation of words (that is accent) but it is the structure of their sentences and the words they u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shouldn’t have did tha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lluva nice fella, but he ain’t brigh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797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Comparisons – simile and metapho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28440" y="164304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 writer uses comparisons to give you a clearer picture of what they me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ragging his feet a little, the way a bear drags his paws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 heavy hands were a pendula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metaph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000680" y="4500720"/>
            <a:ext cx="1000080" cy="4284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929280" y="5072040"/>
            <a:ext cx="1785960" cy="4287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 writer chooses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82880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difference between the right word and the almost right word is the difference between lightning and a lightning bug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Mark Twain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ne day I will find the right words, and they will be simple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ck Keroua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n't tell me the moon is shining; show me the glint of light on broken glass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Anton Chekhov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riters fish for the right words like fishermen fish for, um, whatever those aquatic creatures with fins and gills are called.  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rod Kintz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6-Point Star 3"/>
          <p:cNvSpPr/>
          <p:nvPr/>
        </p:nvSpPr>
        <p:spPr>
          <a:xfrm>
            <a:off x="6929280" y="285840"/>
            <a:ext cx="1643400" cy="1500120"/>
          </a:xfrm>
          <a:custGeom>
            <a:avLst/>
            <a:gdLst/>
            <a:ahLst/>
            <a:rect l="l" t="t" r="r" b="b"/>
            <a:pathLst>
              <a:path w="1643062" h="1500188">
                <a:moveTo>
                  <a:pt x="0" y="375047"/>
                </a:moveTo>
                <a:lnTo>
                  <a:pt x="547683" y="375041"/>
                </a:lnTo>
                <a:lnTo>
                  <a:pt x="821531" y="0"/>
                </a:lnTo>
                <a:lnTo>
                  <a:pt x="1095379" y="375041"/>
                </a:lnTo>
                <a:lnTo>
                  <a:pt x="1643062" y="375047"/>
                </a:lnTo>
                <a:lnTo>
                  <a:pt x="1369227" y="750094"/>
                </a:lnTo>
                <a:lnTo>
                  <a:pt x="1643062" y="1125141"/>
                </a:lnTo>
                <a:lnTo>
                  <a:pt x="1095379" y="1125147"/>
                </a:lnTo>
                <a:lnTo>
                  <a:pt x="821531" y="1500188"/>
                </a:lnTo>
                <a:lnTo>
                  <a:pt x="547683" y="1125147"/>
                </a:lnTo>
                <a:lnTo>
                  <a:pt x="0" y="1125141"/>
                </a:lnTo>
                <a:lnTo>
                  <a:pt x="273835" y="750094"/>
                </a:lnTo>
                <a:lnTo>
                  <a:pt x="0" y="375047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286760" y="714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Word choice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pic>
        <p:nvPicPr>
          <p:cNvPr id="131" name="Picture 2" descr="C:\Documents and Settings\f.rigney\Local Settings\Temporary Internet Files\Content.IE5\UULQF683\MC900240853[1].wmf"/>
          <p:cNvPicPr/>
          <p:nvPr/>
        </p:nvPicPr>
        <p:blipFill>
          <a:blip r:embed="rId1"/>
          <a:stretch/>
        </p:blipFill>
        <p:spPr>
          <a:xfrm>
            <a:off x="0" y="5000760"/>
            <a:ext cx="2025720" cy="1857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he writer’s cra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ing a book is a horrible, exhausting struggle, like a long bout with some painful illness. One would never undertake such a thing if one were not driven on by some demon whom one can neither resist nor understand.”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George Orwel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Always be a poet, even in prose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harles Baudelair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00080" y="1642680"/>
            <a:ext cx="77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Remember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 A writer does nothing by accide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en studying prose (e.g. a novel) you must look at how the writer 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crafted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his novel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Ask yourself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features of language has he/she used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effect do these features have on the reade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 these features help to convey meaning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oper Black"/>
              </a:rPr>
              <a:t>We look for the following: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71400" y="1856880"/>
            <a:ext cx="60721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jec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use of colour to describ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metaphor and 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dialogue and dial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image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The road to hell is paved with adverbs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tephen King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verb describes the action taken (verb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seamstress quickly made the mourning clot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boldly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oken words would return to haunt the rebe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midwives waited patiently through a long labou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you highlight the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dverb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Right Arrow 3"/>
          <p:cNvSpPr/>
          <p:nvPr/>
        </p:nvSpPr>
        <p:spPr>
          <a:xfrm>
            <a:off x="1071720" y="5357880"/>
            <a:ext cx="785520" cy="4284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djectives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jective is a word that describes a nou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little stocky man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tattered dictionary and a mauled copy of the California civil cod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Can you highlight the adjective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Right Arrow 3"/>
          <p:cNvSpPr/>
          <p:nvPr/>
        </p:nvSpPr>
        <p:spPr>
          <a:xfrm>
            <a:off x="142920" y="5500800"/>
            <a:ext cx="1214280" cy="8571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5715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Task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Use of colou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00080" y="16430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The use of colour in descriptions adds more depth. It helps you to picture what the writer is talking about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d and blue and green rabbits, Lenni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ouged cheeks and reddened lip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es the use of colour add to your understanding of the tex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Right Arrow 3"/>
          <p:cNvSpPr/>
          <p:nvPr/>
        </p:nvSpPr>
        <p:spPr>
          <a:xfrm>
            <a:off x="285840" y="5429160"/>
            <a:ext cx="114300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85840" y="57862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?????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lliter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9720" y="1714320"/>
            <a:ext cx="7715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ike in poetry, alliteration means the repetition of the initial letter. Why does a writer do thi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makes it more poetic, catches your attention, adds interesting descrip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harp, strong feature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avy hand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loping shoulders were bent forward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Verb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8440" y="1500120"/>
            <a:ext cx="801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verb is a ‘doing’ word; it is an action taken by a character. The author chooses variations of a word to create meaning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said’: </a:t>
            </a:r>
            <a:r>
              <a:rPr b="1" lang="en-GB" sz="2600" spc="-1" strike="noStrike">
                <a:solidFill>
                  <a:srgbClr val="ede879"/>
                </a:solidFill>
                <a:latin typeface="Times New Roman"/>
              </a:rPr>
              <a:t>whisper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ff8f20"/>
                </a:solidFill>
                <a:latin typeface="Times New Roman"/>
              </a:rPr>
              <a:t>yell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8b2222"/>
                </a:solidFill>
                <a:latin typeface="Times New Roman"/>
              </a:rPr>
              <a:t>exclaim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734d26"/>
                </a:solidFill>
                <a:latin typeface="Times New Roman"/>
              </a:rPr>
              <a:t>cri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pointed to’: </a:t>
            </a:r>
            <a:r>
              <a:rPr b="0" lang="en-GB" sz="2600" spc="-1" strike="noStrike">
                <a:solidFill>
                  <a:srgbClr val="0070c0"/>
                </a:solidFill>
                <a:latin typeface="Times New Roman"/>
              </a:rPr>
              <a:t>motioned towards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00b0f0"/>
                </a:solidFill>
                <a:latin typeface="Times New Roman"/>
              </a:rPr>
              <a:t>indicat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had’ (belonging):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</a:rPr>
              <a:t>possess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92d050"/>
                </a:solidFill>
                <a:latin typeface="Times New Roman"/>
              </a:rPr>
              <a:t>own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Why are these words better? Why does the author choose these instead? What effect do they have on the reader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Right Arrow 3"/>
          <p:cNvSpPr/>
          <p:nvPr/>
        </p:nvSpPr>
        <p:spPr>
          <a:xfrm>
            <a:off x="0" y="5143680"/>
            <a:ext cx="1500120" cy="1428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0" y="55720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Ask yourself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3:24:14Z</dcterms:created>
  <dc:creator>TEACHER</dc:creator>
  <dc:description/>
  <dc:language>en-US</dc:language>
  <cp:lastModifiedBy>Sally</cp:lastModifiedBy>
  <dcterms:modified xsi:type="dcterms:W3CDTF">2014-03-02T05:02:30Z</dcterms:modified>
  <cp:revision>46</cp:revision>
  <dc:subject/>
  <dc:title>A and A*s Group</dc:title>
</cp:coreProperties>
</file>